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jpeg" ContentType="image/jpeg"/>
  <Override PartName="/ppt/media/image14.png" ContentType="image/pn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26"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PlaceHolder 2"/>
          <p:cNvSpPr>
            <a:spLocks noGrp="1"/>
          </p:cNvSpPr>
          <p:nvPr>
            <p:ph type="dt" idx="76"/>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1028"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029"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0" name="PlaceHolder 5"/>
          <p:cNvSpPr>
            <a:spLocks noGrp="1"/>
          </p:cNvSpPr>
          <p:nvPr>
            <p:ph type="ftr" idx="77"/>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PlaceHolder 6"/>
          <p:cNvSpPr>
            <a:spLocks noGrp="1"/>
          </p:cNvSpPr>
          <p:nvPr>
            <p:ph type="sldNum" idx="78"/>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281BE-B700-4597-BC86-29AF07DE124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iris.edu/ieb"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iris.edu/hq/programs/education_and_outreach/animations#K"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257480" y="720720"/>
            <a:ext cx="4800600" cy="3600360"/>
          </a:xfrm>
          <a:prstGeom prst="rect">
            <a:avLst/>
          </a:prstGeom>
          <a:ln w="0">
            <a:noFill/>
          </a:ln>
        </p:spPr>
      </p:sp>
      <p:sp>
        <p:nvSpPr>
          <p:cNvPr id="11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1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6EFA7-D211-488B-83B6-E1B5A6F0C5B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257480" y="720720"/>
            <a:ext cx="4800600" cy="3600360"/>
          </a:xfrm>
          <a:prstGeom prst="rect">
            <a:avLst/>
          </a:prstGeom>
          <a:ln w="0">
            <a:noFill/>
          </a:ln>
        </p:spPr>
      </p:sp>
      <p:sp>
        <p:nvSpPr>
          <p:cNvPr id="112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8B8BE-BB66-425F-B222-0C6B372A2B86}"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257480" y="720720"/>
            <a:ext cx="4800600" cy="3600360"/>
          </a:xfrm>
          <a:prstGeom prst="rect">
            <a:avLst/>
          </a:prstGeom>
          <a:ln w="0">
            <a:noFill/>
          </a:ln>
        </p:spPr>
      </p:sp>
      <p:sp>
        <p:nvSpPr>
          <p:cNvPr id="113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82BAF-B79E-41EF-8A0B-EB52104E3E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257480" y="720720"/>
            <a:ext cx="4800600" cy="3600360"/>
          </a:xfrm>
          <a:prstGeom prst="rect">
            <a:avLst/>
          </a:prstGeom>
          <a:ln w="0">
            <a:noFill/>
          </a:ln>
        </p:spPr>
      </p:sp>
      <p:sp>
        <p:nvSpPr>
          <p:cNvPr id="11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E0025-0049-4A14-A969-C70B905352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257480" y="720720"/>
            <a:ext cx="4800600" cy="3600360"/>
          </a:xfrm>
          <a:prstGeom prst="rect">
            <a:avLst/>
          </a:prstGeom>
          <a:ln w="0">
            <a:noFill/>
          </a:ln>
        </p:spPr>
      </p:sp>
      <p:sp>
        <p:nvSpPr>
          <p:cNvPr id="113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Exploring Seismicity:</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ve Earthquake Browser—World map or 3D viewer </a:t>
            </a:r>
            <a:r>
              <a:rPr b="0" lang="en-US" sz="1100" spc="-1" strike="noStrike" u="sng">
                <a:solidFill>
                  <a:srgbClr val="0000ff"/>
                </a:solidFill>
                <a:uFillTx/>
                <a:latin typeface="Calibri"/>
                <a:hlinkClick r:id="rId1"/>
              </a:rPr>
              <a:t>http://www.iris.edu/ieb</a:t>
            </a:r>
            <a:endParaRPr b="0" lang="en-US" sz="1100" spc="-1" strike="noStrike">
              <a:solidFill>
                <a:srgbClr val="000000"/>
              </a:solidFill>
              <a:latin typeface="Calibri"/>
            </a:endParaRPr>
          </a:p>
        </p:txBody>
      </p:sp>
      <p:sp>
        <p:nvSpPr>
          <p:cNvPr id="11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1C6D6-3FB6-4347-810D-16336357592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257480" y="720720"/>
            <a:ext cx="4800600" cy="3600360"/>
          </a:xfrm>
          <a:prstGeom prst="rect">
            <a:avLst/>
          </a:prstGeom>
          <a:ln w="0">
            <a:noFill/>
          </a:ln>
        </p:spPr>
      </p:sp>
      <p:sp>
        <p:nvSpPr>
          <p:cNvPr id="114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quake focal mechanisms? http://www.iris.edu/hq/programs/education_and_outreach/animations/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gathrust earthquakes  http://www.iris.edu/hq/programs/education_and_outreach/animations/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BBB5F-9D7E-4332-A788-4D4F4AAD0EA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257480" y="720720"/>
            <a:ext cx="4800600" cy="3600360"/>
          </a:xfrm>
          <a:prstGeom prst="rect">
            <a:avLst/>
          </a:prstGeom>
          <a:ln w="0">
            <a:noFill/>
          </a:ln>
        </p:spPr>
      </p:sp>
      <p:sp>
        <p:nvSpPr>
          <p:cNvPr id="11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400" spc="-1" strike="noStrike" u="sng">
                <a:solidFill>
                  <a:srgbClr val="0000ff"/>
                </a:solidFill>
                <a:uFillTx/>
                <a:latin typeface="Calibri"/>
                <a:hlinkClick r:id="rId1"/>
              </a:rPr>
              <a:t>http://www.iris.edu/hq/programs/education_and_outreach/animations#K</a:t>
            </a:r>
            <a:endParaRPr b="0" lang="en-US" sz="1400" spc="-1" strike="noStrike">
              <a:solidFill>
                <a:srgbClr val="000000"/>
              </a:solidFill>
              <a:latin typeface="Calibri"/>
            </a:endParaRPr>
          </a:p>
        </p:txBody>
      </p:sp>
      <p:sp>
        <p:nvSpPr>
          <p:cNvPr id="11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31E8C-4206-4896-B7CF-609919ACFB7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257480" y="720720"/>
            <a:ext cx="4800600" cy="3600360"/>
          </a:xfrm>
          <a:prstGeom prst="rect">
            <a:avLst/>
          </a:prstGeom>
          <a:ln w="0">
            <a:noFill/>
          </a:ln>
        </p:spPr>
      </p:sp>
      <p:sp>
        <p:nvSpPr>
          <p:cNvPr id="11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89E5A-9394-421B-912F-FEB416382E7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0B9B6-D4D8-40CA-9650-F11784362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AF8E6-7C87-4324-8A74-FB78904C6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492D32-C914-4A66-8956-0060197D6A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95964C-B8D9-4789-85CD-3708671576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155BF6-7F32-4880-958F-917E91EC25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914CD4-8E63-42ED-9DF6-D0E6661B30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396BB6-9AE1-4510-A119-D8F832D6D1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9D12CB-AA09-432E-86B5-B45C30CE9C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9B6705-AEC5-4CDF-8C2B-1EE8399966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392F08-7F3F-4E5D-82E7-67CC4028B0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3B1DC6-3EBD-4A7F-8ED3-0D4EE60F05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4DABE6D-9400-4C1F-8966-E8E4402D2F8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B5B48-7E84-46FB-8FE6-98719AC91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92CB89F-F46A-4B99-B93B-6B69345315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956652-F358-43FF-A15B-2D5E92E62F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7ED864-9696-4413-963B-DEA65E0CCF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3195C4-36FC-4C2D-8161-73A7298CF35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EEC0D93-8EED-4337-B65D-F2C2EA0112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D21138-B7B5-483F-8636-8970F5C73F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D4CE72-ED41-42C9-BA9E-B073CE66CA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9B5D18-1B68-480B-AB51-46DA8A71DF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FDF221A-4CEE-456F-A199-E96C203F8B5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1297FF3-FA3F-47A9-AF6C-532F0AB2D0F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0D48C-AF31-47CB-BDE0-67C42801B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BA5529D-DC7A-43E9-8DB2-C838B5DE153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AA1B7F9-61E3-4F53-A492-DDC536B16A0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ED9BFD-E59A-4816-9642-CD838EB37D0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B3F2FA6-E3F6-4ADE-8B36-6DC3C01D2A4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DCD894-C063-4C6B-B9D4-31A68936245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10A01E-2978-4084-91DC-934DC63130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2856F4D-A9B8-47C5-8A0D-2145F750508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503AF1-EEEC-4BF4-88B8-585BE4B2BB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7FED95-CB38-4FD5-A62B-61814981C0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05EB37-F54E-4716-8774-0D44F7E9AF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650C55-0632-4DFE-8837-C11DAB406B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7B5E28C-5352-4B8F-8E20-B76E0AD8DBA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E2598F1-F6C3-439F-B019-61671D4C814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CD36011-5E68-4E80-9FFE-2F5FCF52C6D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EC59D05-A12D-4D28-884D-7A9EF7242E8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829201D-85C8-4604-AC46-04D5CD6F6A1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6EB3DB4-FCD3-4A5D-B9DB-7C1DF5D992C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C16C87-1CDF-41CD-8931-EB2F8072A6A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AFD4021-D8E1-48AE-9FEB-7B6DF5569CD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55EBC8A-86A7-41FD-829B-A67EF342826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03B492-D7E2-43EF-9CA1-DFA04DCB30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4603D-D71D-4954-AE2F-4EB0F803D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B42FA7-BFD9-4DA9-A7B0-7589BA6917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5D95A6-6C7E-4AE0-8F22-D18B489C3E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C55F2E-B37F-46AD-9B0F-44E15ACF533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EF247F1-50D2-4BCE-A865-5BEB1F4F3A0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4680B41-259D-4B42-A198-A89E3B4EF14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BB8DE2A-8DB8-4FF6-926B-76C163211F5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145D55E-948D-41ED-B241-CA0CA441E93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96A087E-2806-4B22-A674-CF7A20447C9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67B68DD-33F8-4014-9548-5B5810F5369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3803C49-BA58-4367-BACC-A5F45927187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3F0A4-F7AB-4305-9821-8FF36BC55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1BB7D47-9811-45AC-9DF1-A9C4EE87A45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651011-EA00-44A9-936D-7B1E011FB53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6B6ED6-B075-4990-A3AD-2126F0DCC4A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333E372-F4D6-41F1-9C40-33B1C56410F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2BCBC7D-0F5B-46C8-A6D3-BC160A7FE4E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16756A8-289F-4BAB-B05B-7FB1040474E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6393C25-15A3-4602-87EC-931EE376F38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19971A5-46FC-402B-BCE6-BF6F0B3B58C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80350B0-3C1E-4362-A9B5-663F8AED7D8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B2A93C1-ABFE-4B85-8D61-67AB536D7DA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3BB88-67C7-435A-8CA9-731BD2DFC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91295B5-D457-4878-BCE9-48EB78FE433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97614FE-2E18-423F-AD95-784ED530253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A1AEE6B-B6AF-4119-9632-8870AFA33BA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03AA64B-569C-4BC6-9DDC-6CC9043E3CE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F00E0A7-3B3B-4E3F-AB6B-924F64F4D10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FC821B6-D25D-427A-920B-539E65CB06E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EE1A4B1-89EE-43FB-A6C0-C8FC29FACF5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D02F179-B449-49F7-99A8-53C61416F90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7FB6D5F-9F1E-4910-B792-57ECEAA7035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759D249-BE9E-456F-BDE0-BDB5904F2F2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B2944-B232-4D54-B6B7-77D8F0A34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98C8E38-A380-4CA5-ADEC-0FC29D6768E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56C6C16-7BB7-4AAB-9753-EFE349B86FB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4CE7B31-2AED-4949-A5A9-C2F09404026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AD81993-B6D8-418F-9E6D-CF20A505337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BA05458-0CA5-4DDD-B6BD-AF3EE73D4B1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A38DFCD-A038-44E7-824B-A77E790DD0D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EF9D434-43EE-44CF-B63C-D84E8631C17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5B6539F-F9BC-481A-B4F0-8F56AFC369B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2FF50B4-D58C-40E4-8477-36CC71AB1A3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DEE9E9E-669B-4C17-8200-21F01CBE643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03F98-34BA-4FC3-9859-4003F456D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8ECB322-E948-4EBC-AFED-67CBFBCD70A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D2352FD-FB2F-4B8F-80AA-7C69E21B697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D93AFC9-EB29-4553-9793-5C0AC146915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D2F9983-56A2-4A51-BAB5-C522BF46CAB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B29E9F8-DF41-4CE9-8F6B-D36DD7CDADC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B5C02CD-CB5D-4300-A95A-967DC764D36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C2072D8-95A3-4100-AA6B-DDFEE0942A4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05AA96B-3C2C-4D79-9659-969D56E764A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681F944-3C8B-484F-99E8-6295030B456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4033B3F-3D19-4B03-9146-BFF04602BE7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19185-B8DC-467C-B506-AAD214A9B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FBE63FF-9811-45A6-8D21-825765FB2CB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C02842A-A223-4290-964C-DE401552BA0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1AEDD2E-0E74-4A5D-8218-CE22C931920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444244B-E62D-4651-9B7C-537775BDA46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3BA417C-E261-48A6-9D24-3EFF79119F0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1CFCD33-CB11-40DD-B812-C4A006CF9AB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9734EC6-E54C-4554-BF0D-0290AE0F47B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0CBC7F0-535B-468A-8179-EBAF8E5E89E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C34FAC7-8CF5-49C4-BE3D-156A68633AE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578CBED-B2EE-43B1-B898-80DC23499AA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1CBE5-ADFB-4325-8E45-6E6A0AA67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EF40F-D3CD-49B0-8BEC-A24737BB2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E490B3F-68BD-4475-BB4C-89352A104D8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16CF722-5721-44AA-8B08-5E28D6ED255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38ACBBE-EA45-4020-AB70-57D456C7766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5BA4968-1C36-49E2-9A01-5093DE808E4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AD88961-0483-4B0C-81D6-50EACF8F85B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0CC1F43-5D10-44FC-8A80-0840F3F18F8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B64F76B-13B1-4775-9C2D-837F0707DE5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61F54C2-0D94-493D-8108-C040363F89B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9C76210-68E2-45EC-87FB-3AD2BF5B541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B0B30F9-E46B-4622-BFAA-A8B2DF4D0B8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865B4-38A7-408A-AB5A-51AF21FB7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10C6743-79DC-4B65-B33B-A6034A17385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3C10DB2-29DB-4A3F-8448-5F43A0D4342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6F2EE03-0E8B-4158-A8E6-EBE307B5E95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4400ABE-44DB-4744-996E-BE403891BFD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E84753B-E99C-4D98-AEAA-8BF0BC4BAFB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AFF5901-BA3A-4E35-822E-EB6B0CE2113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4A2D9B5-AE2B-47DD-909A-8B1E39BCA15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0926AD4-FBE3-4383-A3D2-99986DDF7AA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F8D77C0-A304-4E1F-9AD3-C239AAB758D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6B32BC3-047B-4437-A9CF-D42D748AABC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E023A-8241-47C1-83E3-CE76941D8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24D0424-872E-4072-918D-D8BF64A3E77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969D87A-AD86-4D27-99C6-20A2C9D029C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9355143-50E9-4970-B1CD-BA2106AB21E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B98E47F-6FD9-426F-B318-B024BE3103B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2C4E004-F794-4D8F-81AB-7AB3C892358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9DDD6D2-579E-49E7-90E8-4E54756E1C8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76B815F-9CA5-4CA8-9529-9019C763AB2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02B0B5D-0EED-4BE4-9CF8-E46BD0BFE0B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378C8D4-7E30-4A46-A5BB-54AD43A571D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A3E61DD-75F6-4F9A-806D-67B7026A51F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876F8B-BF59-4B53-A8D6-812FDC622B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D782D91-443D-4496-8C0A-59DDDB7EDD7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3B2E779-E07B-42C9-A5CA-87700A77567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2858CE5-1009-4241-A6E3-4F338AFB5E9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E4153D6-9CC8-4478-BF1F-81D9FA05332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1092863-9E61-4CBB-931E-87AA1941AE5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0DB313B-A2B2-465D-A4FA-AC9AB8FB1F0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74AD0A0-83DB-44C4-8681-BEA1829B136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8264530-FB99-495A-96BE-CC79289BCE7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44068CC-D90B-4D5D-A338-210FBC70FCD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C7EBB77-0C67-411A-B316-910BDCC3F92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1CDD7B-8C81-413E-AF1C-4AAF7F520A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68034F6-A649-4318-9BEF-C92EBD57715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C0D0590A-37CC-4B43-9CA7-21C2DF2B5F9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3059EAB-7225-41BF-B46B-9825EEABFBE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4DAC47B-84BF-4F8A-85BF-6946CBC02C8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76FC168-C839-4B99-8648-5CA961F9E53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ED1CAD5-D744-4AE9-A4B7-6C5C6E5A172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83BD0ED-A1E4-433A-9A01-CE59E1B816B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F098388-95CA-4845-B86D-EBD0CA837AA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91A4292-59DE-4A73-AE8A-35A7F9A5422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D41A985-3C1D-4A86-94E2-464DCF3D56D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4EB552-1F43-4183-883C-044793BF9E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B614006-6BB3-42DE-B190-64D1EB7297F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96706E0B-D8E8-4627-AC88-4ECD3929215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6AA5ECB5-A6F0-4D5A-A42F-775E19EC9E0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113ED1C-748A-477D-AFBB-487CC0EFB96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0D19F3A-5F79-4154-B90C-635805187FE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774A154-E5EA-4FC0-BDBF-880D01591C5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E313BF3-45A4-4348-88B9-028EF6AC100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BDB4977-1471-4BD2-9CE1-A6B571C3074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08A201A-CE68-484F-AFDC-C09AEE0CF5D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8FD978C-2DA5-48B5-85C7-C16B2A758D2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49C44F-A54D-4C46-9163-9E3A08E8C9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F5D150C-A5E2-40B2-BBB0-4E436D13057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9B8EA8C-0904-4B45-BB56-0C9D7408586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8FCAB24-26A6-4DC2-BA98-82386D1101F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FA55F01-B446-4689-82D6-A02F791F4C9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4D1DB18-D363-41C8-B8F0-54F85513678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2F181A90-FD75-4658-AC0F-E82B0EA308A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B08D513-A9CC-4603-A3DC-BAA936E5707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836EDFD-26A7-4B09-AD57-3D745A6347B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CA9710F-978B-456A-8325-E0E1F0BD027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287A6A3-F03E-425F-BBBD-70A9A192EC5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65DBC4-64B4-4674-8C1C-84DBDD4EA9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370F013-265A-438F-82E7-681DD621AFC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5649AE3-76FE-42BF-BC5C-2030D253BC3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B62796B-855B-4A94-A4BE-ED203A32684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65BC066-394E-408E-82CE-45E0EB22892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A4F464A-A510-4AD9-8ED8-9528B113FBC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A597B6A3-7A39-4E98-A5FF-81AFA51F1BF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FE03A6D4-B722-4784-980C-0A307B09D1A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4498F8C8-DF38-44BB-87B2-FA944C09CE59}"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4ED763D-49FC-4839-A01D-3591AC890E2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028BBEF-52F9-4137-94CC-DF4DE03B8D8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5C480B-9592-4DF7-B34E-BAF75742DF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65B4DCF-9BFE-4612-BFC3-7164DC41012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05C1921-26B0-4E82-AC3B-3D1B342A848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C57EB83-6D95-4C52-9AC1-3511E677052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1CB6285-2625-48B1-A360-094B02B3134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550C967-9543-4EC1-AE93-A2BDBE90B6C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791C4A9-A2DA-40E6-82F4-0D12E897E09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6FC7A77-6F34-43E8-989E-B86F6C14D6E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54D6D87F-E3C1-410A-A716-7E1E761EEC30}"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EAC191B3-0ECA-48CA-920D-27B5A45FF7D2}"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BD9C25AA-C7BA-4426-B60B-29E2E6ADA34D}"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B15BC3-54C2-4500-8B4B-F91BE73EF9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C85456C-08F3-48D5-8ABF-285FD5C0BD8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023E974-B8C5-40D4-816B-8988A192ADC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6D89234-2C24-44AA-A063-1180002FC66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869DBC0-51E2-4D62-8DFF-ABE35F6B210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B14E428-3382-4B5D-B1B8-82388C996DD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E3476BD-3E9C-473C-922E-31775F398E3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0DDE583-4987-4C57-A52D-FC9A049087A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62B79BD-9AA2-45EB-9AE1-0EAC1BCAFB1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EE4DD96-807C-4153-8BD7-C42D5AECFE6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575D735F-88D3-4694-9FEC-12DF8AD26709}"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246E5-D008-4691-AFEE-697675DD7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69162F-DBFC-4D0B-882D-48E188BDBD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B456B5B3-6520-4DB9-9469-56737637A3BB}"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1DC0FC-247A-4B9C-9B9F-1AAB1ABFBA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E20AD8-3956-4CB0-ADED-169C7F655B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AD9146-5377-4695-9C4E-ACC98ABA14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D441FF-C190-4B4C-AB56-FA15071F83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2A4B33-EFBF-4102-962C-D70B30C453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1266AB-1B56-4A7C-949F-3A511614FC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A30A99-16B2-4E87-AB07-A03400A16B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F32392-60D7-42A0-BB03-3EA4A9241C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3BB42F-668E-4A1D-AA27-DC2DD09F7E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CBF58-793B-4201-8C9D-D925D788E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B0A345-C420-45AE-9501-7CD441F212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850C85-2AE8-4D8F-A4C8-BAE16817E3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897E29-E34A-45EF-A52D-979503931D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4E525A-8797-4DC1-B3E1-68A9AC1B73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BF6CD8-2FC7-4B44-BBB8-966AD6A030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5D667F-88C3-42C3-A39B-3EAD78A504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00FC03-AB88-450C-B806-B032C8B9B8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7A17C1-4CC3-4B62-AE65-CD9BD888A3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84733A-98E0-42F5-9B9F-4421C362C5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5E0F62-FBD8-4BE5-A1E7-7D91CAE7DB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8CE33-25C5-420E-A1D7-5EB6722EC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DE430F-2D46-435F-A55E-9FBEC4EE43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C8170B-EF04-4651-8A51-12E0B8F85B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444194-E9EF-4FB3-8913-450C902812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C498EA-2D54-422A-9A70-E490DF311A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8D64A2-73B8-4E55-A453-AFBC611565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C3EF03-30B2-478F-BA8A-C582F9DF3A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69E007-823B-47A8-A22E-90776CD44B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768750-1576-44DC-91D6-EA9DCD7921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4FA9CA-727C-4FD8-B0D1-271F23A5D8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7736AE-0CF7-451F-BCEB-0DF2CEF030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B3114-39ED-4E46-801D-5756FB692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8D4C43-FB04-48C2-9F62-0648C42AE6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FE27B5-4FAA-43BF-AC26-D30DFFD4C8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AE36F0-059B-47BB-98E1-FDFA0B15F1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22A3F4-D2F6-471C-AC66-4F5FF31E0E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5F5830-05FF-4BAF-9347-5099B70A45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E9ED68-D1C8-4E9E-BED3-2717C1D4E8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F66F2E-0840-4BB3-9679-FC7E198FFD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338134-0B33-4F44-B9ED-91CFCD976C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5279F2-D779-4290-93CF-BB55F0547E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44682F-0890-46C8-B488-63EA8B0AF5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40C32-385B-47B7-958B-AFFD87185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318FDE-71DA-40A8-9BAF-E0866B3CEF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C03A5E-0FC9-4E88-ADE0-C0C5AD0951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76549E-B996-4E6E-B4C4-87E6974F9F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7A938C-8E70-4D10-BA4F-D4F831ACC9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963377-0118-4B25-A5F9-B9904E64E0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51B96E-F890-4A4B-9D2A-62A11E7F85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E1D882-286E-4F0C-9AF0-752F484143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4F6E20-AD47-4A8B-A5EA-74AB972C05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3227A9-6F93-44E5-BABF-67B28AB0ED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50986D-B734-407F-848C-B4B65BC03F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B411C-F0CD-417F-B079-80ECF41CE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AB4962-D3A4-460E-B077-5C90098C8E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B23215-4B0B-4FEF-B47C-E36DEEAE6E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2CF231-B0CC-4D55-8278-9E44CD9816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D5BD41-4683-49B2-8EA8-EAC4950304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A7B707-C286-49F6-BEE8-61975D9BE8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667BE4-DA72-4DC5-863F-ECF71065C2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70FCBC-6158-4B97-9F81-5DD09F2888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23E41F-0DF2-4535-AC5F-F38C5AD772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2A94DD-331B-48BD-B259-755B52CEAE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BC865E-826E-46F5-8135-A6B9CF16E5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284DB-B0FA-4802-8A4F-8102E354C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32E341-7B25-4493-B40D-BCD90F9F49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B0D416-E9C2-4B3C-B248-2A15ECCB1B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057D04-348A-4661-B648-AFD1193C6E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4A0953-5C53-4FBC-96D9-87248CFF13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5433FA-FA4A-46E5-AE0B-D24304041D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55462A-6750-4AC4-B58C-4365E2E01B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BD3D78-5821-43CA-87FA-F93C0A56B2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94DF26-0E0E-41A5-A3A5-D89230527F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2A6E5B-1D7F-4AA6-8410-BAD4FD7675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84C0CC-E5A1-488E-974A-A6B698E52CA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A1CF8-433E-40EE-9FA5-78D17F35AB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5CE97-ADC5-487D-A85A-9278E3A145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D0127-3756-45EF-A5D0-CF963C8C0C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8F2AA-EC1E-4EC6-B7D3-D466BD68C15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E5012-8023-432C-980F-F96DECC020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A25CE-214B-4EAF-A645-7260F817933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77"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2887F-B438-4C7D-9218-382377C781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618"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59C0A-EF08-4E43-B425-85F224A24DF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659"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5CB8F-F8B0-4A2F-A19B-C89E9762D4E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00"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667DB-1F98-4D5F-98FB-E78A20415D8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0"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41"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750B3-A8AF-4439-91C5-6699D29FE5A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82C52F-C39F-4638-AA1B-16A8E95FE0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82"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88CB1-B1D1-475B-A01B-387D4122647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2"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23"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C3D95-9D15-4AC3-B8A1-76ABF423BA1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64"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AC9DF-E966-4DA6-A088-694A162F07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4"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05"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ECD80-077E-44B0-9173-811708F49F6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5"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46"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63954-1DD9-483C-BC9C-7329951F72A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6"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87"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9D8A2-9790-4CE2-BDF7-7D5615E59C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473163-9D44-4122-B410-A5104B2799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B1AA7-8CC9-4A94-9B12-BB17DEC5A3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FE47C-1792-40A8-9147-BD32718F4BF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903F-6744-474A-84BF-B19B2B84F1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A15DD-BA20-4B00-B9EA-2CD6261D0D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991C8-39E2-4E52-8A0D-C91F98F569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AA02C-0500-4A45-96C3-EC2EFB39B98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37.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7.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tkb@iris.edu" TargetMode="External"/><Relationship Id="rId2" Type="http://schemas.openxmlformats.org/officeDocument/2006/relationships/hyperlink" Target="http://www.iris.edu/hq/retm" TargetMode="External"/><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169.xml"/><Relationship Id="rId7"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3" name="Picture 8" descr="IRIS_TMlogo.png"/>
          <p:cNvPicPr/>
          <p:nvPr/>
        </p:nvPicPr>
        <p:blipFill>
          <a:blip r:embed="rId1"/>
          <a:stretch/>
        </p:blipFill>
        <p:spPr>
          <a:xfrm>
            <a:off x="239760" y="76320"/>
            <a:ext cx="903240" cy="927000"/>
          </a:xfrm>
          <a:prstGeom prst="rect">
            <a:avLst/>
          </a:prstGeom>
          <a:ln w="0">
            <a:noFill/>
          </a:ln>
        </p:spPr>
      </p:pic>
      <p:sp>
        <p:nvSpPr>
          <p:cNvPr id="1034" name="TextBox 14"/>
          <p:cNvSpPr/>
          <p:nvPr/>
        </p:nvSpPr>
        <p:spPr>
          <a:xfrm>
            <a:off x="241200" y="1082520"/>
            <a:ext cx="6845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magnitude 7.5 earthquake occurred 33 kilometers (20 miles) southwest of Tari, Papua New Guinea, at a depth of 35 km (22 miles). Papua New Guinea is located on the eastern half of the island of New Guinea, to the east of Indonesia. It is home to about 7 million peop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re were no immediate reports of injuri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5" name="Picture 1" descr=""/>
          <p:cNvPicPr/>
          <p:nvPr/>
        </p:nvPicPr>
        <p:blipFill>
          <a:blip r:embed="rId2"/>
          <a:stretch/>
        </p:blipFill>
        <p:spPr>
          <a:xfrm>
            <a:off x="318960" y="3619440"/>
            <a:ext cx="3338640" cy="2652840"/>
          </a:xfrm>
          <a:prstGeom prst="rect">
            <a:avLst/>
          </a:prstGeom>
          <a:ln w="0">
            <a:noFill/>
          </a:ln>
        </p:spPr>
      </p:pic>
      <p:pic>
        <p:nvPicPr>
          <p:cNvPr id="1036" name="Picture 2" descr=""/>
          <p:cNvPicPr/>
          <p:nvPr/>
        </p:nvPicPr>
        <p:blipFill>
          <a:blip r:embed="rId3"/>
          <a:stretch/>
        </p:blipFill>
        <p:spPr>
          <a:xfrm>
            <a:off x="7315200" y="681120"/>
            <a:ext cx="1681200" cy="1681200"/>
          </a:xfrm>
          <a:prstGeom prst="rect">
            <a:avLst/>
          </a:prstGeom>
          <a:ln w="0">
            <a:noFill/>
          </a:ln>
        </p:spPr>
      </p:pic>
      <p:sp>
        <p:nvSpPr>
          <p:cNvPr id="103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PAPUA NEW GUINEA</a:t>
            </a:r>
            <a:br>
              <a:rPr sz="3500"/>
            </a:br>
            <a:r>
              <a:rPr b="1" lang="en-US" sz="1500" spc="-1" strike="noStrike">
                <a:solidFill>
                  <a:srgbClr val="11488b"/>
                </a:solidFill>
                <a:latin typeface="Arial"/>
                <a:ea typeface="Arial"/>
              </a:rPr>
              <a:t>Sunday,  February 25, 2018 at 17:44:44 UTC</a:t>
            </a:r>
            <a:endParaRPr b="0" lang="en-US" sz="1500" spc="-1" strike="noStrike">
              <a:solidFill>
                <a:srgbClr val="000000"/>
              </a:solidFill>
              <a:latin typeface="Arial"/>
            </a:endParaRPr>
          </a:p>
        </p:txBody>
      </p:sp>
      <p:grpSp>
        <p:nvGrpSpPr>
          <p:cNvPr id="1038" name="Group 1"/>
          <p:cNvGrpSpPr/>
          <p:nvPr/>
        </p:nvGrpSpPr>
        <p:grpSpPr>
          <a:xfrm>
            <a:off x="4064040" y="3186000"/>
            <a:ext cx="4865760" cy="3443400"/>
            <a:chOff x="4064040" y="3186000"/>
            <a:chExt cx="4865760" cy="3443400"/>
          </a:xfrm>
        </p:grpSpPr>
        <p:pic>
          <p:nvPicPr>
            <p:cNvPr id="1039" name="Picture 4" descr=""/>
            <p:cNvPicPr/>
            <p:nvPr/>
          </p:nvPicPr>
          <p:blipFill>
            <a:blip r:embed="rId4"/>
            <a:stretch/>
          </p:blipFill>
          <p:spPr>
            <a:xfrm>
              <a:off x="4064040" y="3186000"/>
              <a:ext cx="4865760" cy="3443400"/>
            </a:xfrm>
            <a:prstGeom prst="rect">
              <a:avLst/>
            </a:prstGeom>
            <a:ln w="0">
              <a:noFill/>
            </a:ln>
          </p:spPr>
        </p:pic>
        <p:sp>
          <p:nvSpPr>
            <p:cNvPr id="1040" name="TextBox 13"/>
            <p:cNvSpPr/>
            <p:nvPr/>
          </p:nvSpPr>
          <p:spPr>
            <a:xfrm>
              <a:off x="7086600" y="524340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eb4e3"/>
                  </a:solidFill>
                  <a:latin typeface="Times New Roman"/>
                  <a:ea typeface="Times New Roman"/>
                </a:rPr>
                <a:t>Solomon Sea</a:t>
              </a:r>
              <a:endParaRPr b="0" lang="en-US" sz="1200" spc="-1" strike="noStrike">
                <a:solidFill>
                  <a:srgbClr val="000000"/>
                </a:solidFill>
                <a:latin typeface="Arial"/>
              </a:endParaRPr>
            </a:p>
          </p:txBody>
        </p:sp>
        <p:sp>
          <p:nvSpPr>
            <p:cNvPr id="1041" name="TextBox 5"/>
            <p:cNvSpPr/>
            <p:nvPr/>
          </p:nvSpPr>
          <p:spPr>
            <a:xfrm>
              <a:off x="5181480" y="4633920"/>
              <a:ext cx="9842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ece1"/>
                  </a:solidFill>
                  <a:latin typeface="Arial"/>
                  <a:ea typeface="ＭＳ Ｐゴシック"/>
                </a:rPr>
                <a:t>Papua New Guinea</a:t>
              </a:r>
              <a:endParaRPr b="0" lang="en-US" sz="1000" spc="-1" strike="noStrike">
                <a:solidFill>
                  <a:srgbClr val="000000"/>
                </a:solidFill>
                <a:latin typeface="Arial"/>
              </a:endParaRPr>
            </a:p>
          </p:txBody>
        </p:sp>
        <p:sp>
          <p:nvSpPr>
            <p:cNvPr id="1042" name="TextBox 18"/>
            <p:cNvSpPr/>
            <p:nvPr/>
          </p:nvSpPr>
          <p:spPr>
            <a:xfrm>
              <a:off x="6040440" y="4348080"/>
              <a:ext cx="984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ece1"/>
                  </a:solidFill>
                  <a:latin typeface="Arial"/>
                  <a:ea typeface="ＭＳ Ｐゴシック"/>
                </a:rPr>
                <a:t>New Britain</a:t>
              </a:r>
              <a:endParaRPr b="0" lang="en-US" sz="1000" spc="-1" strike="noStrike">
                <a:solidFill>
                  <a:srgbClr val="000000"/>
                </a:solidFill>
                <a:latin typeface="Arial"/>
              </a:endParaRPr>
            </a:p>
          </p:txBody>
        </p:sp>
        <p:sp>
          <p:nvSpPr>
            <p:cNvPr id="1043" name="TextBox 19"/>
            <p:cNvSpPr/>
            <p:nvPr/>
          </p:nvSpPr>
          <p:spPr>
            <a:xfrm>
              <a:off x="7836120" y="4427280"/>
              <a:ext cx="9842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ece1"/>
                  </a:solidFill>
                  <a:latin typeface="Arial"/>
                  <a:ea typeface="ＭＳ Ｐゴシック"/>
                </a:rPr>
                <a:t>Bougainville Island</a:t>
              </a:r>
              <a:endParaRPr b="0" lang="en-US" sz="1000" spc="-1" strike="noStrike">
                <a:solidFill>
                  <a:srgbClr val="000000"/>
                </a:solidFill>
                <a:latin typeface="Arial"/>
              </a:endParaRPr>
            </a:p>
          </p:txBody>
        </p:sp>
        <p:sp>
          <p:nvSpPr>
            <p:cNvPr id="1044" name="TextBox 20"/>
            <p:cNvSpPr/>
            <p:nvPr/>
          </p:nvSpPr>
          <p:spPr>
            <a:xfrm>
              <a:off x="4117680" y="4187520"/>
              <a:ext cx="984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ece1"/>
                  </a:solidFill>
                  <a:latin typeface="Arial"/>
                  <a:ea typeface="ＭＳ Ｐゴシック"/>
                </a:rPr>
                <a:t>Papua</a:t>
              </a:r>
              <a:endParaRPr b="0" lang="en-US" sz="1000" spc="-1" strike="noStrike">
                <a:solidFill>
                  <a:srgbClr val="000000"/>
                </a:solidFill>
                <a:latin typeface="Arial"/>
              </a:endParaRPr>
            </a:p>
          </p:txBody>
        </p:sp>
        <p:sp>
          <p:nvSpPr>
            <p:cNvPr id="1045" name="5-Point Star 6"/>
            <p:cNvSpPr/>
            <p:nvPr/>
          </p:nvSpPr>
          <p:spPr>
            <a:xfrm>
              <a:off x="5102280" y="4672080"/>
              <a:ext cx="297360" cy="297360"/>
            </a:xfrm>
            <a:custGeom>
              <a:avLst/>
              <a:gdLst>
                <a:gd name="textAreaLeft" fmla="*/ 0 w 297360"/>
                <a:gd name="textAreaRight" fmla="*/ 297720 w 297360"/>
                <a:gd name="textAreaTop" fmla="*/ 0 h 297360"/>
                <a:gd name="textAreaBottom" fmla="*/ 297720 h 297360"/>
              </a:gdLst>
              <a:ahLst/>
              <a:rect l="textAreaLeft" t="textAreaTop" r="textAreaRight" b="textAreaBottom"/>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0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7" name="Picture 12" descr="scale.jpg"/>
          <p:cNvPicPr/>
          <p:nvPr/>
        </p:nvPicPr>
        <p:blipFill>
          <a:blip r:embed="rId1"/>
          <a:stretch/>
        </p:blipFill>
        <p:spPr>
          <a:xfrm>
            <a:off x="380880" y="4070520"/>
            <a:ext cx="2127240" cy="2319120"/>
          </a:xfrm>
          <a:prstGeom prst="rect">
            <a:avLst/>
          </a:prstGeom>
          <a:ln w="0">
            <a:noFill/>
          </a:ln>
        </p:spPr>
      </p:pic>
      <p:sp>
        <p:nvSpPr>
          <p:cNvPr id="1048" name="TextBox 13"/>
          <p:cNvSpPr/>
          <p:nvPr/>
        </p:nvSpPr>
        <p:spPr>
          <a:xfrm>
            <a:off x="271440" y="371952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ified Mercalli Intensity</a:t>
            </a:r>
            <a:endParaRPr b="0" lang="en-US" sz="1400" spc="-1" strike="noStrike">
              <a:solidFill>
                <a:srgbClr val="000000"/>
              </a:solidFill>
              <a:latin typeface="Arial"/>
            </a:endParaRPr>
          </a:p>
        </p:txBody>
      </p:sp>
      <p:sp>
        <p:nvSpPr>
          <p:cNvPr id="1049" name="TextBox 14"/>
          <p:cNvSpPr/>
          <p:nvPr/>
        </p:nvSpPr>
        <p:spPr>
          <a:xfrm>
            <a:off x="2541600" y="350532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0" name="TextBox 15"/>
          <p:cNvSpPr/>
          <p:nvPr/>
        </p:nvSpPr>
        <p:spPr>
          <a:xfrm>
            <a:off x="4089240" y="6261120"/>
            <a:ext cx="48769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Estimated shaking Intensity from M 7.5 Earthquake</a:t>
            </a:r>
            <a:endParaRPr b="0" lang="en-US" sz="1400" spc="-1" strike="noStrike">
              <a:solidFill>
                <a:srgbClr val="000000"/>
              </a:solidFill>
              <a:latin typeface="Arial"/>
            </a:endParaRPr>
          </a:p>
        </p:txBody>
      </p:sp>
      <p:sp>
        <p:nvSpPr>
          <p:cNvPr id="1051" name="TextBox 15"/>
          <p:cNvSpPr/>
          <p:nvPr/>
        </p:nvSpPr>
        <p:spPr>
          <a:xfrm>
            <a:off x="212760" y="1170000"/>
            <a:ext cx="3722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odified-Mercalli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cale is a twelve-stage scale,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 to XII, that indicates the sever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f ground sh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ose nearest the earthquake experienced violent sha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2" name="Picture 8" descr="IRIS_TMlogo.png"/>
          <p:cNvPicPr/>
          <p:nvPr/>
        </p:nvPicPr>
        <p:blipFill>
          <a:blip r:embed="rId2"/>
          <a:stretch/>
        </p:blipFill>
        <p:spPr>
          <a:xfrm>
            <a:off x="239760" y="76320"/>
            <a:ext cx="903240" cy="927000"/>
          </a:xfrm>
          <a:prstGeom prst="rect">
            <a:avLst/>
          </a:prstGeom>
          <a:ln w="0">
            <a:noFill/>
          </a:ln>
        </p:spPr>
      </p:pic>
      <p:sp>
        <p:nvSpPr>
          <p:cNvPr id="1053" name="TextBox 15"/>
          <p:cNvSpPr/>
          <p:nvPr/>
        </p:nvSpPr>
        <p:spPr>
          <a:xfrm>
            <a:off x="252360" y="652608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pic>
        <p:nvPicPr>
          <p:cNvPr id="1054" name="Picture 1" descr=""/>
          <p:cNvPicPr/>
          <p:nvPr/>
        </p:nvPicPr>
        <p:blipFill>
          <a:blip r:embed="rId3"/>
          <a:stretch/>
        </p:blipFill>
        <p:spPr>
          <a:xfrm>
            <a:off x="3854520" y="1295280"/>
            <a:ext cx="5132160" cy="4965840"/>
          </a:xfrm>
          <a:prstGeom prst="rect">
            <a:avLst/>
          </a:prstGeom>
          <a:ln w="0">
            <a:noFill/>
          </a:ln>
        </p:spPr>
      </p:pic>
      <p:sp>
        <p:nvSpPr>
          <p:cNvPr id="105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PAPUA NEW GUINEA</a:t>
            </a:r>
            <a:br>
              <a:rPr sz="3500"/>
            </a:br>
            <a:r>
              <a:rPr b="1" lang="en-US" sz="1500" spc="-1" strike="noStrike">
                <a:solidFill>
                  <a:srgbClr val="11488b"/>
                </a:solidFill>
                <a:latin typeface="Arial"/>
                <a:ea typeface="Arial"/>
              </a:rPr>
              <a:t>Sunday,  February 25, 2018 at 17:44:44 UT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Box 15"/>
          <p:cNvSpPr/>
          <p:nvPr/>
        </p:nvSpPr>
        <p:spPr>
          <a:xfrm>
            <a:off x="5186520" y="65556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1058" name="Picture 8" descr="IRIS_TMlogo.png"/>
          <p:cNvPicPr/>
          <p:nvPr/>
        </p:nvPicPr>
        <p:blipFill>
          <a:blip r:embed="rId1"/>
          <a:stretch/>
        </p:blipFill>
        <p:spPr>
          <a:xfrm>
            <a:off x="239760" y="76320"/>
            <a:ext cx="903240" cy="927000"/>
          </a:xfrm>
          <a:prstGeom prst="rect">
            <a:avLst/>
          </a:prstGeom>
          <a:ln w="0">
            <a:noFill/>
          </a:ln>
        </p:spPr>
      </p:pic>
      <p:sp>
        <p:nvSpPr>
          <p:cNvPr id="1059" name="TextBox 15"/>
          <p:cNvSpPr/>
          <p:nvPr/>
        </p:nvSpPr>
        <p:spPr>
          <a:xfrm>
            <a:off x="542772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1060"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sp>
        <p:nvSpPr>
          <p:cNvPr id="1061" name="TextBox 18"/>
          <p:cNvSpPr/>
          <p:nvPr/>
        </p:nvSpPr>
        <p:spPr>
          <a:xfrm>
            <a:off x="243000" y="1095480"/>
            <a:ext cx="4405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The USGS estimates that 40,000 people felt violent shaking from this earthquake.</a:t>
            </a:r>
            <a:endParaRPr b="0" lang="en-US" sz="1800" spc="-1" strike="noStrike">
              <a:solidFill>
                <a:srgbClr val="000000"/>
              </a:solidFill>
              <a:latin typeface="Arial"/>
            </a:endParaRPr>
          </a:p>
        </p:txBody>
      </p:sp>
      <p:pic>
        <p:nvPicPr>
          <p:cNvPr id="1062" name="Picture 1" descr=""/>
          <p:cNvPicPr/>
          <p:nvPr/>
        </p:nvPicPr>
        <p:blipFill>
          <a:blip r:embed="rId2"/>
          <a:stretch/>
        </p:blipFill>
        <p:spPr>
          <a:xfrm>
            <a:off x="4584600" y="1179360"/>
            <a:ext cx="4348440" cy="4341960"/>
          </a:xfrm>
          <a:prstGeom prst="rect">
            <a:avLst/>
          </a:prstGeom>
          <a:ln w="0">
            <a:noFill/>
          </a:ln>
        </p:spPr>
      </p:pic>
      <p:pic>
        <p:nvPicPr>
          <p:cNvPr id="1063" name="Picture 2" descr=""/>
          <p:cNvPicPr/>
          <p:nvPr/>
        </p:nvPicPr>
        <p:blipFill>
          <a:blip r:embed="rId3"/>
          <a:stretch/>
        </p:blipFill>
        <p:spPr>
          <a:xfrm>
            <a:off x="604800" y="2697120"/>
            <a:ext cx="2933640" cy="4010040"/>
          </a:xfrm>
          <a:prstGeom prst="rect">
            <a:avLst/>
          </a:prstGeom>
          <a:ln w="0">
            <a:noFill/>
          </a:ln>
        </p:spPr>
      </p:pic>
      <p:sp>
        <p:nvSpPr>
          <p:cNvPr id="106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PAPUA NEW GUINEA</a:t>
            </a:r>
            <a:br>
              <a:rPr sz="3500"/>
            </a:br>
            <a:r>
              <a:rPr b="1" lang="en-US" sz="1500" spc="-1" strike="noStrike">
                <a:solidFill>
                  <a:srgbClr val="11488b"/>
                </a:solidFill>
                <a:latin typeface="Arial"/>
                <a:ea typeface="Arial"/>
              </a:rPr>
              <a:t>Sunday,  February 25, 2018 at 17:44:44 UT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6" name="Picture 8" descr="IRIS_TMlogo.png"/>
          <p:cNvPicPr/>
          <p:nvPr/>
        </p:nvPicPr>
        <p:blipFill>
          <a:blip r:embed="rId1"/>
          <a:stretch/>
        </p:blipFill>
        <p:spPr>
          <a:xfrm>
            <a:off x="239760" y="76320"/>
            <a:ext cx="903240" cy="927000"/>
          </a:xfrm>
          <a:prstGeom prst="rect">
            <a:avLst/>
          </a:prstGeom>
          <a:ln w="0">
            <a:noFill/>
          </a:ln>
        </p:spPr>
      </p:pic>
      <p:sp>
        <p:nvSpPr>
          <p:cNvPr id="1067" name="TextBox 14"/>
          <p:cNvSpPr/>
          <p:nvPr/>
        </p:nvSpPr>
        <p:spPr>
          <a:xfrm>
            <a:off x="6049800" y="861840"/>
            <a:ext cx="300852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E part of the Australian Plate is broken into microplates that accommodate its convergence with the Pacific Plate.  Arrows on the map below show net motions relative to the Australian Plate.  The red star shows the location of this earthquake.</a:t>
            </a:r>
            <a:endParaRPr b="0" lang="en-US" sz="1400" spc="-1" strike="noStrike">
              <a:solidFill>
                <a:srgbClr val="000000"/>
              </a:solidFill>
              <a:latin typeface="Arial"/>
            </a:endParaRPr>
          </a:p>
        </p:txBody>
      </p:sp>
      <p:pic>
        <p:nvPicPr>
          <p:cNvPr id="1068" name="Picture 1" descr=""/>
          <p:cNvPicPr/>
          <p:nvPr/>
        </p:nvPicPr>
        <p:blipFill>
          <a:blip r:embed="rId2"/>
          <a:stretch/>
        </p:blipFill>
        <p:spPr>
          <a:xfrm>
            <a:off x="411120" y="990720"/>
            <a:ext cx="5608800" cy="3835440"/>
          </a:xfrm>
          <a:prstGeom prst="rect">
            <a:avLst/>
          </a:prstGeom>
          <a:ln w="0">
            <a:noFill/>
          </a:ln>
        </p:spPr>
      </p:pic>
      <p:sp>
        <p:nvSpPr>
          <p:cNvPr id="1069" name="TextBox 14"/>
          <p:cNvSpPr/>
          <p:nvPr/>
        </p:nvSpPr>
        <p:spPr>
          <a:xfrm>
            <a:off x="351000" y="4906800"/>
            <a:ext cx="467820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cific Plate converges rapidly with the Australian Plate. Earthquakes in this region are generally associated with the large-scale convergence of these two major plates and with the complex interactions of the associated microplates . Due to the location and the depth of 35 km (21 miles), this earthquake likely occurred within the crust of the Australian Plate.</a:t>
            </a:r>
            <a:endParaRPr b="0" lang="en-US" sz="1400" spc="-1" strike="noStrike">
              <a:solidFill>
                <a:srgbClr val="000000"/>
              </a:solidFill>
              <a:latin typeface="Arial"/>
            </a:endParaRPr>
          </a:p>
        </p:txBody>
      </p:sp>
      <p:sp>
        <p:nvSpPr>
          <p:cNvPr id="1070" name="Rectangle 6"/>
          <p:cNvSpPr/>
          <p:nvPr/>
        </p:nvSpPr>
        <p:spPr>
          <a:xfrm>
            <a:off x="1066680" y="2971800"/>
            <a:ext cx="304920" cy="366840"/>
          </a:xfrm>
          <a:prstGeom prst="rect">
            <a:avLst/>
          </a:prstGeom>
          <a:noFill/>
          <a:ln w="648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Straight Connector 8"/>
          <p:cNvSpPr/>
          <p:nvPr/>
        </p:nvSpPr>
        <p:spPr>
          <a:xfrm flipV="1">
            <a:off x="1371600" y="2730600"/>
            <a:ext cx="4070520" cy="241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Straight Connector 11"/>
          <p:cNvSpPr/>
          <p:nvPr/>
        </p:nvSpPr>
        <p:spPr>
          <a:xfrm>
            <a:off x="1371600" y="3338640"/>
            <a:ext cx="4070520" cy="3213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3" name="Picture 2" descr=""/>
          <p:cNvPicPr/>
          <p:nvPr/>
        </p:nvPicPr>
        <p:blipFill>
          <a:blip r:embed="rId3"/>
          <a:stretch/>
        </p:blipFill>
        <p:spPr>
          <a:xfrm>
            <a:off x="5445000" y="2730600"/>
            <a:ext cx="3586320" cy="3827520"/>
          </a:xfrm>
          <a:prstGeom prst="rect">
            <a:avLst/>
          </a:prstGeom>
          <a:ln w="9360">
            <a:solidFill>
              <a:srgbClr val="000000"/>
            </a:solidFill>
            <a:miter/>
          </a:ln>
          <a:effectLst>
            <a:outerShdw dist="38160" dir="10800000" blurRad="0" rotWithShape="0">
              <a:srgbClr val="808080">
                <a:alpha val="40000"/>
              </a:srgbClr>
            </a:outerShdw>
          </a:effectLst>
        </p:spPr>
      </p:pic>
      <p:sp>
        <p:nvSpPr>
          <p:cNvPr id="1074" name="Rectangle 13"/>
          <p:cNvSpPr/>
          <p:nvPr/>
        </p:nvSpPr>
        <p:spPr>
          <a:xfrm>
            <a:off x="5410080" y="6551640"/>
            <a:ext cx="381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SU; </a:t>
            </a:r>
            <a:r>
              <a:rPr b="0" i="1" lang="es-VE" sz="1200" spc="-1" strike="noStrike">
                <a:solidFill>
                  <a:srgbClr val="000000"/>
                </a:solidFill>
                <a:latin typeface="Arial"/>
              </a:rPr>
              <a:t>simplified from Hamilton (1979)</a:t>
            </a:r>
            <a:r>
              <a:rPr b="0" i="1" lang="en-US" sz="1200" spc="-1" strike="noStrike">
                <a:solidFill>
                  <a:srgbClr val="000000"/>
                </a:solidFill>
                <a:latin typeface="Arial"/>
              </a:rPr>
              <a:t> </a:t>
            </a:r>
            <a:endParaRPr b="0" lang="en-US" sz="1200" spc="-1" strike="noStrike">
              <a:solidFill>
                <a:srgbClr val="000000"/>
              </a:solidFill>
              <a:latin typeface="Arial"/>
            </a:endParaRPr>
          </a:p>
        </p:txBody>
      </p:sp>
      <p:sp>
        <p:nvSpPr>
          <p:cNvPr id="1075" name="5-Point Star 7"/>
          <p:cNvSpPr/>
          <p:nvPr/>
        </p:nvSpPr>
        <p:spPr>
          <a:xfrm>
            <a:off x="5867280" y="4792680"/>
            <a:ext cx="152640" cy="152280"/>
          </a:xfrm>
          <a:custGeom>
            <a:avLst/>
            <a:gdLst/>
            <a:ahLst/>
            <a:rect l="l" t="t" r="r" b="b"/>
            <a:pathLst>
              <a:path w="152400" h="152400">
                <a:moveTo>
                  <a:pt x="0" y="58211"/>
                </a:moveTo>
                <a:lnTo>
                  <a:pt x="58212" y="58212"/>
                </a:lnTo>
                <a:lnTo>
                  <a:pt x="76200" y="0"/>
                </a:lnTo>
                <a:lnTo>
                  <a:pt x="94188" y="58212"/>
                </a:lnTo>
                <a:lnTo>
                  <a:pt x="152400" y="58211"/>
                </a:lnTo>
                <a:lnTo>
                  <a:pt x="105305" y="94188"/>
                </a:lnTo>
                <a:lnTo>
                  <a:pt x="123294" y="152400"/>
                </a:lnTo>
                <a:lnTo>
                  <a:pt x="76200" y="116422"/>
                </a:lnTo>
                <a:lnTo>
                  <a:pt x="29106" y="152400"/>
                </a:lnTo>
                <a:lnTo>
                  <a:pt x="47095" y="94188"/>
                </a:lnTo>
                <a:lnTo>
                  <a:pt x="0" y="58211"/>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PAPUA NEW GUINEA</a:t>
            </a:r>
            <a:br>
              <a:rPr sz="3500"/>
            </a:br>
            <a:r>
              <a:rPr b="1" lang="en-US" sz="1500" spc="-1" strike="noStrike">
                <a:solidFill>
                  <a:srgbClr val="11488b"/>
                </a:solidFill>
                <a:latin typeface="Arial"/>
                <a:ea typeface="Arial"/>
              </a:rPr>
              <a:t>Sunday,  February 25, 2018 at 17:44:44 UT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7" name="Picture 1" descr=""/>
          <p:cNvPicPr/>
          <p:nvPr/>
        </p:nvPicPr>
        <p:blipFill>
          <a:blip r:embed="rId1"/>
          <a:stretch/>
        </p:blipFill>
        <p:spPr>
          <a:xfrm>
            <a:off x="3363840" y="1251000"/>
            <a:ext cx="5703840" cy="4540320"/>
          </a:xfrm>
          <a:prstGeom prst="rect">
            <a:avLst/>
          </a:prstGeom>
          <a:ln w="0">
            <a:noFill/>
          </a:ln>
        </p:spPr>
      </p:pic>
      <p:sp>
        <p:nvSpPr>
          <p:cNvPr id="107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9" name="Picture 18" descr="IRIS_TMlogo.png"/>
          <p:cNvPicPr/>
          <p:nvPr/>
        </p:nvPicPr>
        <p:blipFill>
          <a:blip r:embed="rId2"/>
          <a:stretch/>
        </p:blipFill>
        <p:spPr>
          <a:xfrm>
            <a:off x="239760" y="76320"/>
            <a:ext cx="903240" cy="927000"/>
          </a:xfrm>
          <a:prstGeom prst="rect">
            <a:avLst/>
          </a:prstGeom>
          <a:ln w="0">
            <a:noFill/>
          </a:ln>
        </p:spPr>
      </p:pic>
      <p:sp>
        <p:nvSpPr>
          <p:cNvPr id="1080" name="TextBox 14"/>
          <p:cNvSpPr/>
          <p:nvPr/>
        </p:nvSpPr>
        <p:spPr>
          <a:xfrm>
            <a:off x="306360" y="1150920"/>
            <a:ext cx="2849760" cy="5351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eismicity map covers the same region as the microplate tectonic map of the previous slide.  Locations of the most recent 1000 earthquakes of magnitude (M) </a:t>
            </a:r>
            <a:r>
              <a:rPr b="0" lang="en-US" sz="1600" spc="-1" strike="noStrike" u="sng">
                <a:solidFill>
                  <a:srgbClr val="000000"/>
                </a:solidFill>
                <a:uFillTx/>
                <a:latin typeface="Arial"/>
              </a:rPr>
              <a:t>&gt;</a:t>
            </a:r>
            <a:r>
              <a:rPr b="0" lang="en-US" sz="1600" spc="-1" strike="noStrike">
                <a:solidFill>
                  <a:srgbClr val="000000"/>
                </a:solidFill>
                <a:latin typeface="Arial"/>
              </a:rPr>
              <a:t> 5 are shown.  </a:t>
            </a: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thquake depths increase from southwest to northeast across the New Britain Trench where the Solomon Sea microplate subducts beneath the much larger Pacific Plate.  </a:t>
            </a: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y from this complexity, this earthquake occurred as intraplate faulting within the crust of the Australian Plate as is shown with a blue star.</a:t>
            </a: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1" name="TextBox 16"/>
          <p:cNvSpPr/>
          <p:nvPr/>
        </p:nvSpPr>
        <p:spPr>
          <a:xfrm>
            <a:off x="4519440" y="5859360"/>
            <a:ext cx="39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p created with the IRIS Earthquake Browser</a:t>
            </a:r>
            <a:endParaRPr b="0" lang="en-US" sz="1400" spc="-1" strike="noStrike">
              <a:solidFill>
                <a:srgbClr val="000000"/>
              </a:solidFill>
              <a:latin typeface="Arial"/>
            </a:endParaRPr>
          </a:p>
        </p:txBody>
      </p:sp>
      <p:sp>
        <p:nvSpPr>
          <p:cNvPr id="1082" name="TextBox 30"/>
          <p:cNvSpPr/>
          <p:nvPr/>
        </p:nvSpPr>
        <p:spPr>
          <a:xfrm>
            <a:off x="3156120" y="4800600"/>
            <a:ext cx="2361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stralian Plate</a:t>
            </a:r>
            <a:endParaRPr b="0" lang="en-US" sz="2000" spc="-1" strike="noStrike">
              <a:solidFill>
                <a:srgbClr val="000000"/>
              </a:solidFill>
              <a:latin typeface="Arial"/>
            </a:endParaRPr>
          </a:p>
        </p:txBody>
      </p:sp>
      <p:sp>
        <p:nvSpPr>
          <p:cNvPr id="1083" name="TextBox 9"/>
          <p:cNvSpPr/>
          <p:nvPr/>
        </p:nvSpPr>
        <p:spPr>
          <a:xfrm rot="20295000">
            <a:off x="5326560" y="349056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a:t>
            </a:r>
            <a:endParaRPr b="0" lang="en-US" sz="1200" spc="-1" strike="noStrike">
              <a:solidFill>
                <a:srgbClr val="000000"/>
              </a:solidFill>
              <a:latin typeface="Arial"/>
            </a:endParaRPr>
          </a:p>
        </p:txBody>
      </p:sp>
      <p:sp>
        <p:nvSpPr>
          <p:cNvPr id="1084" name="TextBox 11"/>
          <p:cNvSpPr/>
          <p:nvPr/>
        </p:nvSpPr>
        <p:spPr>
          <a:xfrm rot="1794600">
            <a:off x="6241680" y="3381840"/>
            <a:ext cx="65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ench</a:t>
            </a:r>
            <a:endParaRPr b="0" lang="en-US" sz="1200" spc="-1" strike="noStrike">
              <a:solidFill>
                <a:srgbClr val="000000"/>
              </a:solidFill>
              <a:latin typeface="Arial"/>
            </a:endParaRPr>
          </a:p>
        </p:txBody>
      </p:sp>
      <p:sp>
        <p:nvSpPr>
          <p:cNvPr id="1085" name="TextBox 16"/>
          <p:cNvSpPr/>
          <p:nvPr/>
        </p:nvSpPr>
        <p:spPr>
          <a:xfrm>
            <a:off x="6372360" y="1687680"/>
            <a:ext cx="185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cific Plate </a:t>
            </a:r>
            <a:endParaRPr b="0" lang="en-US" sz="2000" spc="-1" strike="noStrike">
              <a:solidFill>
                <a:srgbClr val="000000"/>
              </a:solidFill>
              <a:latin typeface="Arial"/>
            </a:endParaRPr>
          </a:p>
        </p:txBody>
      </p:sp>
      <p:sp>
        <p:nvSpPr>
          <p:cNvPr id="1086" name="TextBox 16"/>
          <p:cNvSpPr/>
          <p:nvPr/>
        </p:nvSpPr>
        <p:spPr>
          <a:xfrm>
            <a:off x="5776920" y="4105440"/>
            <a:ext cx="152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lomon Sea Plate</a:t>
            </a:r>
            <a:endParaRPr b="0" lang="en-US" sz="1200" spc="-1" strike="noStrike">
              <a:solidFill>
                <a:srgbClr val="000000"/>
              </a:solidFill>
              <a:latin typeface="Arial"/>
            </a:endParaRPr>
          </a:p>
        </p:txBody>
      </p:sp>
      <p:sp>
        <p:nvSpPr>
          <p:cNvPr id="1087" name="TextBox 9"/>
          <p:cNvSpPr/>
          <p:nvPr/>
        </p:nvSpPr>
        <p:spPr>
          <a:xfrm rot="20296200">
            <a:off x="5682600" y="3332160"/>
            <a:ext cx="61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itain</a:t>
            </a:r>
            <a:endParaRPr b="0" lang="en-US" sz="1200" spc="-1" strike="noStrike">
              <a:solidFill>
                <a:srgbClr val="000000"/>
              </a:solidFill>
              <a:latin typeface="Arial"/>
            </a:endParaRPr>
          </a:p>
        </p:txBody>
      </p:sp>
      <p:sp>
        <p:nvSpPr>
          <p:cNvPr id="1088" name="TextBox 16"/>
          <p:cNvSpPr/>
          <p:nvPr/>
        </p:nvSpPr>
        <p:spPr>
          <a:xfrm>
            <a:off x="4127400" y="2865600"/>
            <a:ext cx="1825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th Bismarck Plate</a:t>
            </a:r>
            <a:endParaRPr b="0" lang="en-US" sz="1200" spc="-1" strike="noStrike">
              <a:solidFill>
                <a:srgbClr val="000000"/>
              </a:solidFill>
              <a:latin typeface="Arial"/>
            </a:endParaRPr>
          </a:p>
        </p:txBody>
      </p:sp>
      <p:sp>
        <p:nvSpPr>
          <p:cNvPr id="1089" name="TextBox 16"/>
          <p:cNvSpPr/>
          <p:nvPr/>
        </p:nvSpPr>
        <p:spPr>
          <a:xfrm>
            <a:off x="3916440" y="2335320"/>
            <a:ext cx="1825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th Bismarck Plate</a:t>
            </a:r>
            <a:endParaRPr b="0" lang="en-US" sz="1200" spc="-1" strike="noStrike">
              <a:solidFill>
                <a:srgbClr val="000000"/>
              </a:solidFill>
              <a:latin typeface="Arial"/>
            </a:endParaRPr>
          </a:p>
        </p:txBody>
      </p:sp>
      <p:pic>
        <p:nvPicPr>
          <p:cNvPr id="1090" name="Picture 7" descr=""/>
          <p:cNvPicPr/>
          <p:nvPr/>
        </p:nvPicPr>
        <p:blipFill>
          <a:blip r:embed="rId3"/>
          <a:srcRect l="2103" t="1569" r="68382" b="20943"/>
          <a:stretch/>
        </p:blipFill>
        <p:spPr>
          <a:xfrm>
            <a:off x="8623440" y="1409760"/>
            <a:ext cx="339480" cy="1879560"/>
          </a:xfrm>
          <a:prstGeom prst="rect">
            <a:avLst/>
          </a:prstGeom>
          <a:ln w="0">
            <a:noFill/>
          </a:ln>
        </p:spPr>
      </p:pic>
      <p:pic>
        <p:nvPicPr>
          <p:cNvPr id="1091" name="Picture 26" descr=""/>
          <p:cNvPicPr/>
          <p:nvPr/>
        </p:nvPicPr>
        <p:blipFill>
          <a:blip r:embed="rId4"/>
          <a:srcRect l="2535" t="82052" r="36557" b="2398"/>
          <a:stretch/>
        </p:blipFill>
        <p:spPr>
          <a:xfrm>
            <a:off x="8272440" y="5324400"/>
            <a:ext cx="701640" cy="378000"/>
          </a:xfrm>
          <a:prstGeom prst="rect">
            <a:avLst/>
          </a:prstGeom>
          <a:ln w="0">
            <a:noFill/>
          </a:ln>
        </p:spPr>
      </p:pic>
      <p:sp>
        <p:nvSpPr>
          <p:cNvPr id="1092" name="5-Point Star 24"/>
          <p:cNvSpPr/>
          <p:nvPr/>
        </p:nvSpPr>
        <p:spPr>
          <a:xfrm>
            <a:off x="3670200" y="3417840"/>
            <a:ext cx="246240" cy="246240"/>
          </a:xfrm>
          <a:custGeom>
            <a:avLst/>
            <a:gdLst/>
            <a:ahLst/>
            <a:rect l="l" t="t" r="r" b="b"/>
            <a:pathLst>
              <a:path w="246134" h="246134">
                <a:moveTo>
                  <a:pt x="0" y="94015"/>
                </a:moveTo>
                <a:lnTo>
                  <a:pt x="94015" y="94015"/>
                </a:lnTo>
                <a:lnTo>
                  <a:pt x="123067" y="0"/>
                </a:lnTo>
                <a:lnTo>
                  <a:pt x="152119" y="94015"/>
                </a:lnTo>
                <a:lnTo>
                  <a:pt x="246134" y="94015"/>
                </a:lnTo>
                <a:lnTo>
                  <a:pt x="170074" y="152119"/>
                </a:lnTo>
                <a:lnTo>
                  <a:pt x="199126" y="246133"/>
                </a:lnTo>
                <a:lnTo>
                  <a:pt x="123067" y="188028"/>
                </a:lnTo>
                <a:lnTo>
                  <a:pt x="47008" y="246133"/>
                </a:lnTo>
                <a:lnTo>
                  <a:pt x="76060" y="152119"/>
                </a:lnTo>
                <a:lnTo>
                  <a:pt x="0" y="94015"/>
                </a:lnTo>
                <a:close/>
              </a:path>
            </a:pathLst>
          </a:custGeom>
          <a:solidFill>
            <a:srgbClr val="0070c0"/>
          </a:solidFill>
          <a:ln w="12600">
            <a:solidFill>
              <a:srgbClr val="bfbfb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PAPUA NEW GUINEA</a:t>
            </a:r>
            <a:br>
              <a:rPr sz="3500"/>
            </a:br>
            <a:r>
              <a:rPr b="1" lang="en-US" sz="1500" spc="-1" strike="noStrike">
                <a:solidFill>
                  <a:srgbClr val="11488b"/>
                </a:solidFill>
                <a:latin typeface="Arial"/>
                <a:ea typeface="Arial"/>
              </a:rPr>
              <a:t>Sunday,  February 25, 2018 at 17:44:44 UT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TextBox 7"/>
          <p:cNvSpPr/>
          <p:nvPr/>
        </p:nvSpPr>
        <p:spPr>
          <a:xfrm>
            <a:off x="228600" y="1179360"/>
            <a:ext cx="4114800" cy="28371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ccording to the USGS, the location, depth and focal mechanism solution all indicate the earthquake occurred as a result of intraplate compressional faulting within Australian Plate.</a:t>
            </a:r>
            <a:endParaRPr b="0" lang="en-US" sz="18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t the location of this earthquake, the Australian Plate is converging with the Pacific Plate, moving towards the east-northeast with respect to the Pacific Plate at a velocity of approximately 107 mm/yr. </a:t>
            </a:r>
            <a:endParaRPr b="0" lang="en-US" sz="1800" spc="-1" strike="noStrike">
              <a:solidFill>
                <a:srgbClr val="000000"/>
              </a:solidFill>
              <a:latin typeface="Arial"/>
            </a:endParaRPr>
          </a:p>
        </p:txBody>
      </p:sp>
      <p:sp>
        <p:nvSpPr>
          <p:cNvPr id="1095" name="TextBox 8"/>
          <p:cNvSpPr/>
          <p:nvPr/>
        </p:nvSpPr>
        <p:spPr>
          <a:xfrm>
            <a:off x="3505320" y="5479920"/>
            <a:ext cx="4965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tension axis (T) reflects the minimum compressive stress direction.  The pressure axis (P) reflects the maximum compressive stress direction.</a:t>
            </a:r>
            <a:endParaRPr b="0" lang="en-US" sz="1400" spc="-1" strike="noStrike">
              <a:solidFill>
                <a:srgbClr val="000000"/>
              </a:solidFill>
              <a:latin typeface="Arial"/>
            </a:endParaRPr>
          </a:p>
        </p:txBody>
      </p:sp>
      <p:sp>
        <p:nvSpPr>
          <p:cNvPr id="1096" name="TextBox 11"/>
          <p:cNvSpPr/>
          <p:nvPr/>
        </p:nvSpPr>
        <p:spPr>
          <a:xfrm>
            <a:off x="380880" y="649764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phase Moment Tensor Solution</a:t>
            </a:r>
            <a:endParaRPr b="0" lang="en-US" sz="1400" spc="-1" strike="noStrike">
              <a:solidFill>
                <a:srgbClr val="000000"/>
              </a:solidFill>
              <a:latin typeface="Arial"/>
            </a:endParaRPr>
          </a:p>
        </p:txBody>
      </p:sp>
      <p:sp>
        <p:nvSpPr>
          <p:cNvPr id="1097"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8" name="Picture 8" descr="IRIS_TMlogo.png"/>
          <p:cNvPicPr/>
          <p:nvPr/>
        </p:nvPicPr>
        <p:blipFill>
          <a:blip r:embed="rId1"/>
          <a:stretch/>
        </p:blipFill>
        <p:spPr>
          <a:xfrm>
            <a:off x="239760" y="76320"/>
            <a:ext cx="903240" cy="927000"/>
          </a:xfrm>
          <a:prstGeom prst="rect">
            <a:avLst/>
          </a:prstGeom>
          <a:ln w="0">
            <a:noFill/>
          </a:ln>
        </p:spPr>
      </p:pic>
      <p:sp>
        <p:nvSpPr>
          <p:cNvPr id="1099" name="TextBox 8"/>
          <p:cNvSpPr/>
          <p:nvPr/>
        </p:nvSpPr>
        <p:spPr>
          <a:xfrm>
            <a:off x="4764240" y="4290840"/>
            <a:ext cx="423684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gional tectonic complexities involving the convergence of the Australian and Pacific Plates (click for animation)</a:t>
            </a:r>
            <a:endParaRPr b="0" lang="en-US" sz="1400" spc="-1" strike="noStrike">
              <a:solidFill>
                <a:srgbClr val="000000"/>
              </a:solidFill>
              <a:latin typeface="Arial"/>
            </a:endParaRPr>
          </a:p>
        </p:txBody>
      </p:sp>
      <p:sp>
        <p:nvSpPr>
          <p:cNvPr id="1100" name="Rectangle 7"/>
          <p:cNvSpPr/>
          <p:nvPr/>
        </p:nvSpPr>
        <p:spPr>
          <a:xfrm>
            <a:off x="5232240" y="6489720"/>
            <a:ext cx="3911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s courtesy of the U.S. Geological Survey</a:t>
            </a:r>
            <a:endParaRPr b="0" lang="en-US" sz="1400" spc="-1" strike="noStrike">
              <a:solidFill>
                <a:srgbClr val="000000"/>
              </a:solidFill>
              <a:latin typeface="Arial"/>
            </a:endParaRPr>
          </a:p>
        </p:txBody>
      </p:sp>
      <p:sp>
        <p:nvSpPr>
          <p:cNvPr id="110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PAPUA NEW GUINEA</a:t>
            </a:r>
            <a:br>
              <a:rPr sz="3500"/>
            </a:br>
            <a:r>
              <a:rPr b="1" lang="en-US" sz="1500" spc="-1" strike="noStrike">
                <a:solidFill>
                  <a:srgbClr val="11488b"/>
                </a:solidFill>
                <a:latin typeface="Arial"/>
                <a:ea typeface="Arial"/>
              </a:rPr>
              <a:t>Sunday,  February 25, 2018 at 17:44:44 UTC</a:t>
            </a:r>
            <a:endParaRPr b="0" lang="en-US" sz="1500" spc="-1" strike="noStrike">
              <a:solidFill>
                <a:srgbClr val="000000"/>
              </a:solidFill>
              <a:latin typeface="Arial"/>
            </a:endParaRPr>
          </a:p>
        </p:txBody>
      </p:sp>
      <p:pic>
        <p:nvPicPr>
          <p:cNvPr id="1102" name="Picture 4" descr=""/>
          <p:cNvPicPr/>
          <p:nvPr/>
        </p:nvPicPr>
        <p:blipFill>
          <a:blip r:embed="rId2"/>
          <a:stretch/>
        </p:blipFill>
        <p:spPr>
          <a:xfrm>
            <a:off x="517680" y="4049640"/>
            <a:ext cx="2514600" cy="2460600"/>
          </a:xfrm>
          <a:prstGeom prst="rect">
            <a:avLst/>
          </a:prstGeom>
          <a:ln w="0">
            <a:noFill/>
          </a:ln>
        </p:spPr>
      </p:pic>
      <p:pic>
        <p:nvPicPr>
          <p:cNvPr id="1103" name="SolomonVanuatu_EQ_Tectonics" descr=""/>
          <p:cNvPicPr/>
          <p:nvPr/>
        </p:nvPicPr>
        <p:blipFill>
          <a:blip r:embed="rId3"/>
          <a:stretch/>
        </p:blipFill>
        <p:spPr>
          <a:xfrm>
            <a:off x="4572000" y="1366920"/>
            <a:ext cx="4343400" cy="2895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03"/>
                    </p:tgtEl>
                  </p:cond>
                </p:stCondLst>
                <p:childTnLst>
                  <p:par>
                    <p:cTn id="3" fill="hold">
                      <p:stCondLst>
                        <p:cond evt="onClick">
                          <p:tgtEl>
                            <p:spTgt spid="1103"/>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4" name="Picture 1" descr=""/>
          <p:cNvPicPr/>
          <p:nvPr/>
        </p:nvPicPr>
        <p:blipFill>
          <a:blip r:embed="rId1"/>
          <a:stretch/>
        </p:blipFill>
        <p:spPr>
          <a:xfrm>
            <a:off x="457200" y="1347840"/>
            <a:ext cx="8400960" cy="5357880"/>
          </a:xfrm>
          <a:prstGeom prst="rect">
            <a:avLst/>
          </a:prstGeom>
          <a:ln w="0">
            <a:noFill/>
          </a:ln>
        </p:spPr>
      </p:pic>
      <p:sp>
        <p:nvSpPr>
          <p:cNvPr id="110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6" name="Picture 18" descr="IRIS_TMlogo.png"/>
          <p:cNvPicPr/>
          <p:nvPr/>
        </p:nvPicPr>
        <p:blipFill>
          <a:blip r:embed="rId2"/>
          <a:stretch/>
        </p:blipFill>
        <p:spPr>
          <a:xfrm>
            <a:off x="239760" y="76320"/>
            <a:ext cx="903240" cy="927000"/>
          </a:xfrm>
          <a:prstGeom prst="rect">
            <a:avLst/>
          </a:prstGeom>
          <a:ln w="0">
            <a:noFill/>
          </a:ln>
        </p:spPr>
      </p:pic>
      <p:sp>
        <p:nvSpPr>
          <p:cNvPr id="1107" name="TextBox 4"/>
          <p:cNvSpPr/>
          <p:nvPr/>
        </p:nvSpPr>
        <p:spPr>
          <a:xfrm>
            <a:off x="2209680" y="1395360"/>
            <a:ext cx="64785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the earthquake, it </a:t>
            </a:r>
            <a:r>
              <a:rPr b="0" lang="en-US" sz="1400" spc="-1" strike="noStrike">
                <a:solidFill>
                  <a:srgbClr val="000000"/>
                </a:solidFill>
                <a:latin typeface="Arial"/>
                <a:ea typeface="ＭＳ Ｐゴシック"/>
              </a:rPr>
              <a:t>took 13 minutes 40 seconds </a:t>
            </a:r>
            <a:r>
              <a:rPr b="0" lang="en-US" sz="1400" spc="-1" strike="noStrike">
                <a:solidFill>
                  <a:srgbClr val="000000"/>
                </a:solidFill>
                <a:latin typeface="Arial"/>
                <a:ea typeface="ＭＳ Ｐゴシック"/>
              </a:rPr>
              <a:t>for the compressional P waves to travel a curved path through the mantle to Bend, Oregon.</a:t>
            </a:r>
            <a:endParaRPr b="0" lang="en-US" sz="1400" spc="-1" strike="noStrike">
              <a:solidFill>
                <a:srgbClr val="000000"/>
              </a:solidFill>
              <a:latin typeface="Arial"/>
            </a:endParaRPr>
          </a:p>
        </p:txBody>
      </p:sp>
      <p:sp>
        <p:nvSpPr>
          <p:cNvPr id="1108" name="TextBox 7"/>
          <p:cNvSpPr/>
          <p:nvPr/>
        </p:nvSpPr>
        <p:spPr>
          <a:xfrm>
            <a:off x="1744560" y="828720"/>
            <a:ext cx="6332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record of the earthquake in Bend, Oregon (BNOR) is illustrated below. Bend is 10933 km (6793 miles, 98.5°) from the location of this earthquake. </a:t>
            </a:r>
            <a:endParaRPr b="0" lang="en-US" sz="1400" spc="-1" strike="noStrike">
              <a:solidFill>
                <a:srgbClr val="000000"/>
              </a:solidFill>
              <a:latin typeface="Arial"/>
            </a:endParaRPr>
          </a:p>
        </p:txBody>
      </p:sp>
      <p:sp>
        <p:nvSpPr>
          <p:cNvPr id="1109" name="TextBox 6"/>
          <p:cNvSpPr/>
          <p:nvPr/>
        </p:nvSpPr>
        <p:spPr>
          <a:xfrm>
            <a:off x="1749600" y="5494320"/>
            <a:ext cx="6781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rface waves traveled the 9973 km (6197 miles) along the perimeter of the Earth from the earthquake to the recording station. </a:t>
            </a:r>
            <a:r>
              <a:rPr b="0" lang="en-US" sz="1400" spc="-1" strike="noStrike">
                <a:solidFill>
                  <a:srgbClr val="000000"/>
                </a:solidFill>
                <a:latin typeface="Arial"/>
                <a:ea typeface="ＭＳ Ｐゴシック"/>
              </a:rPr>
              <a:t>The surface waves began to arrive in Bend about 30 minutes </a:t>
            </a:r>
            <a:r>
              <a:rPr b="0" lang="en-US" sz="1400" spc="-1" strike="noStrike">
                <a:solidFill>
                  <a:srgbClr val="000000"/>
                </a:solidFill>
                <a:latin typeface="Arial"/>
                <a:ea typeface="ＭＳ Ｐゴシック"/>
              </a:rPr>
              <a:t>after the earthquake occurred</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p:txBody>
      </p:sp>
      <p:sp>
        <p:nvSpPr>
          <p:cNvPr id="1110" name="TextBox 9"/>
          <p:cNvSpPr/>
          <p:nvPr/>
        </p:nvSpPr>
        <p:spPr>
          <a:xfrm>
            <a:off x="1708200" y="4900680"/>
            <a:ext cx="6858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 waves are shear waves that follow the same path through the mantle as P waves.  S waves </a:t>
            </a:r>
            <a:r>
              <a:rPr b="0" lang="en-US" sz="1400" spc="-1" strike="noStrike">
                <a:solidFill>
                  <a:srgbClr val="000000"/>
                </a:solidFill>
                <a:latin typeface="Arial"/>
                <a:ea typeface="ＭＳ Ｐゴシック"/>
              </a:rPr>
              <a:t>took 25 minutes and 10 </a:t>
            </a:r>
            <a:r>
              <a:rPr b="0" lang="en-US" sz="1400" spc="-1" strike="noStrike">
                <a:solidFill>
                  <a:srgbClr val="000000"/>
                </a:solidFill>
                <a:latin typeface="Arial"/>
                <a:ea typeface="ＭＳ Ｐゴシック"/>
              </a:rPr>
              <a:t>seconds to travel from the earthquake to Bend.</a:t>
            </a:r>
            <a:endParaRPr b="0" lang="en-US" sz="1400" spc="-1" strike="noStrike">
              <a:solidFill>
                <a:srgbClr val="000000"/>
              </a:solidFill>
              <a:latin typeface="Arial"/>
            </a:endParaRPr>
          </a:p>
        </p:txBody>
      </p:sp>
      <p:sp>
        <p:nvSpPr>
          <p:cNvPr id="1111" name="TextBox 4"/>
          <p:cNvSpPr/>
          <p:nvPr/>
        </p:nvSpPr>
        <p:spPr>
          <a:xfrm>
            <a:off x="1676520" y="2286000"/>
            <a:ext cx="37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a:t>
            </a:r>
            <a:endParaRPr b="0" lang="en-US" sz="1800" spc="-1" strike="noStrike">
              <a:solidFill>
                <a:srgbClr val="000000"/>
              </a:solidFill>
              <a:latin typeface="Arial"/>
            </a:endParaRPr>
          </a:p>
        </p:txBody>
      </p:sp>
      <p:sp>
        <p:nvSpPr>
          <p:cNvPr id="1112" name="TextBox 11"/>
          <p:cNvSpPr/>
          <p:nvPr/>
        </p:nvSpPr>
        <p:spPr>
          <a:xfrm>
            <a:off x="2952000" y="2901960"/>
            <a:ext cx="333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S</a:t>
            </a:r>
            <a:endParaRPr b="0" lang="en-US" sz="1800" spc="-1" strike="noStrike">
              <a:solidFill>
                <a:srgbClr val="000000"/>
              </a:solidFill>
              <a:latin typeface="Arial"/>
            </a:endParaRPr>
          </a:p>
        </p:txBody>
      </p:sp>
      <p:sp>
        <p:nvSpPr>
          <p:cNvPr id="1113" name="TextBox 11"/>
          <p:cNvSpPr/>
          <p:nvPr/>
        </p:nvSpPr>
        <p:spPr>
          <a:xfrm>
            <a:off x="4910040" y="2525760"/>
            <a:ext cx="2152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face Waves</a:t>
            </a:r>
            <a:endParaRPr b="0" lang="en-US" sz="1800" spc="-1" strike="noStrike">
              <a:solidFill>
                <a:srgbClr val="000000"/>
              </a:solidFill>
              <a:latin typeface="Arial"/>
            </a:endParaRPr>
          </a:p>
        </p:txBody>
      </p:sp>
      <p:sp>
        <p:nvSpPr>
          <p:cNvPr id="1114" name="TextBox 5"/>
          <p:cNvSpPr/>
          <p:nvPr/>
        </p:nvSpPr>
        <p:spPr>
          <a:xfrm>
            <a:off x="2573280" y="4184640"/>
            <a:ext cx="51339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P is a compressional wave that bounced off the surface midway between the earthquake and the recording station.</a:t>
            </a:r>
            <a:endParaRPr b="0" lang="en-US" sz="1400" spc="-1" strike="noStrike">
              <a:solidFill>
                <a:srgbClr val="000000"/>
              </a:solidFill>
              <a:latin typeface="Arial"/>
            </a:endParaRPr>
          </a:p>
        </p:txBody>
      </p:sp>
      <p:sp>
        <p:nvSpPr>
          <p:cNvPr id="1115" name="TextBox 4"/>
          <p:cNvSpPr/>
          <p:nvPr/>
        </p:nvSpPr>
        <p:spPr>
          <a:xfrm>
            <a:off x="2799000" y="1920960"/>
            <a:ext cx="485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P</a:t>
            </a:r>
            <a:endParaRPr b="0" lang="en-US" sz="1800" spc="-1" strike="noStrike">
              <a:solidFill>
                <a:srgbClr val="000000"/>
              </a:solidFill>
              <a:latin typeface="Arial"/>
            </a:endParaRPr>
          </a:p>
        </p:txBody>
      </p:sp>
      <p:cxnSp>
        <p:nvCxnSpPr>
          <p:cNvPr id="1116" name="Straight Arrow Connector 23"/>
          <p:cNvCxnSpPr/>
          <p:nvPr/>
        </p:nvCxnSpPr>
        <p:spPr>
          <a:xfrm>
            <a:off x="1844280" y="2530440"/>
            <a:ext cx="173880" cy="224640"/>
          </a:xfrm>
          <a:prstGeom prst="straightConnector1">
            <a:avLst/>
          </a:prstGeom>
          <a:ln w="12600">
            <a:solidFill>
              <a:srgbClr val="000000"/>
            </a:solidFill>
            <a:miter/>
            <a:tailEnd len="med" type="arrow" w="med"/>
          </a:ln>
        </p:spPr>
      </p:cxnSp>
      <p:sp>
        <p:nvSpPr>
          <p:cNvPr id="111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PAPUA NEW GUINEA</a:t>
            </a:r>
            <a:br>
              <a:rPr sz="3500"/>
            </a:br>
            <a:r>
              <a:rPr b="1" lang="en-US" sz="1500" spc="-1" strike="noStrike">
                <a:solidFill>
                  <a:srgbClr val="11488b"/>
                </a:solidFill>
                <a:latin typeface="Arial"/>
                <a:ea typeface="Arial"/>
              </a:rPr>
              <a:t>Sunday,  February 25, 2018 at 17:44:44 UT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ＭＳ Ｐゴシック"/>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University of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lease send feedback to </a:t>
            </a:r>
            <a:r>
              <a:rPr b="0" lang="en-US" sz="1800" spc="-1" strike="noStrike" u="sng">
                <a:solidFill>
                  <a:srgbClr val="0000ff"/>
                </a:solidFill>
                <a:uFillTx/>
                <a:latin typeface="Arial"/>
                <a:ea typeface="ＭＳ Ｐゴシック"/>
                <a:hlinkClick r:id="rId1"/>
              </a:rPr>
              <a:t>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 receive automatic notifications of new Teachable Mome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ubscribe at </a:t>
            </a:r>
            <a:r>
              <a:rPr b="0" lang="en-US" sz="1800" spc="-1" strike="noStrike" u="sng">
                <a:solidFill>
                  <a:srgbClr val="0000ff"/>
                </a:solidFill>
                <a:uFillTx/>
                <a:latin typeface="Arial"/>
                <a:ea typeface="ＭＳ Ｐゴシック"/>
                <a:hlinkClick r:id="rId2"/>
              </a:rPr>
              <a:t>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0" name="Picture 1" descr=""/>
          <p:cNvPicPr/>
          <p:nvPr/>
        </p:nvPicPr>
        <p:blipFill>
          <a:blip r:embed="rId3"/>
          <a:stretch/>
        </p:blipFill>
        <p:spPr>
          <a:xfrm>
            <a:off x="6400800" y="5262480"/>
            <a:ext cx="2413080" cy="1281240"/>
          </a:xfrm>
          <a:prstGeom prst="rect">
            <a:avLst/>
          </a:prstGeom>
          <a:ln w="0">
            <a:noFill/>
          </a:ln>
        </p:spPr>
      </p:pic>
      <p:pic>
        <p:nvPicPr>
          <p:cNvPr id="1121" name="Picture 1" descr=""/>
          <p:cNvPicPr/>
          <p:nvPr/>
        </p:nvPicPr>
        <p:blipFill>
          <a:blip r:embed="rId4"/>
          <a:stretch/>
        </p:blipFill>
        <p:spPr>
          <a:xfrm>
            <a:off x="709560" y="5337000"/>
            <a:ext cx="1200240" cy="1206720"/>
          </a:xfrm>
          <a:prstGeom prst="rect">
            <a:avLst/>
          </a:prstGeom>
          <a:ln w="0">
            <a:noFill/>
          </a:ln>
        </p:spPr>
      </p:pic>
      <p:sp>
        <p:nvSpPr>
          <p:cNvPr id="1122"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ea typeface="ＭＳ Ｐゴシック"/>
              </a:rPr>
              <a:t>www.iris.edu/earthquake</a:t>
            </a:r>
            <a:endParaRPr b="0" lang="en-US" sz="1400" spc="-1" strike="noStrike">
              <a:solidFill>
                <a:srgbClr val="000000"/>
              </a:solidFill>
              <a:latin typeface="Arial"/>
            </a:endParaRPr>
          </a:p>
        </p:txBody>
      </p:sp>
      <p:pic>
        <p:nvPicPr>
          <p:cNvPr id="1123" name="Picture 4" descr=""/>
          <p:cNvPicPr/>
          <p:nvPr/>
        </p:nvPicPr>
        <p:blipFill>
          <a:blip r:embed="rId5"/>
          <a:stretch/>
        </p:blipFill>
        <p:spPr>
          <a:xfrm>
            <a:off x="3681360" y="4997520"/>
            <a:ext cx="1887480" cy="146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cp:lastPrinted>2013-04-07T18:50:57Z</cp:lastPrinted>
  <dcterms:modified xsi:type="dcterms:W3CDTF">2018-02-26T05:01:03Z</dcterms:modified>
  <cp:revision>737</cp:revision>
  <dc:subject/>
  <dc:title>Slide 1</dc:title>
</cp:coreProperties>
</file>