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jpeg" ContentType="image/jpeg"/>
  <Override PartName="/ppt/media/image14.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6"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2"/>
          <p:cNvSpPr>
            <a:spLocks noGrp="1"/>
          </p:cNvSpPr>
          <p:nvPr>
            <p:ph type="dt" idx="76"/>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1028"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029"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0" name="PlaceHolder 5"/>
          <p:cNvSpPr>
            <a:spLocks noGrp="1"/>
          </p:cNvSpPr>
          <p:nvPr>
            <p:ph type="ftr" idx="77"/>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6"/>
          <p:cNvSpPr>
            <a:spLocks noGrp="1"/>
          </p:cNvSpPr>
          <p:nvPr>
            <p:ph type="sldNum" idx="78"/>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D081-D991-4711-98C3-0E89AE2179A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257480" y="720720"/>
            <a:ext cx="4800600" cy="3600360"/>
          </a:xfrm>
          <a:prstGeom prst="rect">
            <a:avLst/>
          </a:prstGeom>
          <a:ln w="0">
            <a:noFill/>
          </a:ln>
        </p:spPr>
      </p:sp>
      <p:sp>
        <p:nvSpPr>
          <p:cNvPr id="11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C913-82C2-4E57-80E2-8058C0E1AF9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257480" y="720720"/>
            <a:ext cx="4800600" cy="3600360"/>
          </a:xfrm>
          <a:prstGeom prst="rect">
            <a:avLst/>
          </a:prstGeom>
          <a:ln w="0">
            <a:noFill/>
          </a:ln>
        </p:spPr>
      </p:sp>
      <p:sp>
        <p:nvSpPr>
          <p:cNvPr id="112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7794-7CBD-42DD-A6B7-E60A4A03148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257480" y="720720"/>
            <a:ext cx="4800600" cy="3600360"/>
          </a:xfrm>
          <a:prstGeom prst="rect">
            <a:avLst/>
          </a:prstGeom>
          <a:ln w="0">
            <a:noFill/>
          </a:ln>
        </p:spPr>
      </p:sp>
      <p:sp>
        <p:nvSpPr>
          <p:cNvPr id="11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03871-DD48-425F-92B4-A8840BC2E2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257480" y="720720"/>
            <a:ext cx="4800600" cy="3600360"/>
          </a:xfrm>
          <a:prstGeom prst="rect">
            <a:avLst/>
          </a:prstGeom>
          <a:ln w="0">
            <a:noFill/>
          </a:ln>
        </p:spPr>
      </p:sp>
      <p:sp>
        <p:nvSpPr>
          <p:cNvPr id="1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EE61-8985-49FE-B15A-DEEE854A2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257480" y="720720"/>
            <a:ext cx="4800600" cy="3600360"/>
          </a:xfrm>
          <a:prstGeom prst="rect">
            <a:avLst/>
          </a:prstGeom>
          <a:ln w="0">
            <a:noFill/>
          </a:ln>
        </p:spPr>
      </p:sp>
      <p:sp>
        <p:nvSpPr>
          <p:cNvPr id="113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ve Earthquake Browser—World map or 3D viewer </a:t>
            </a:r>
            <a:r>
              <a:rPr b="0" lang="en-US" sz="1100" spc="-1" strike="noStrike" u="sng">
                <a:solidFill>
                  <a:srgbClr val="0000ff"/>
                </a:solidFill>
                <a:uFillTx/>
                <a:latin typeface="Calibri"/>
                <a:hlinkClick r:id="rId1"/>
              </a:rPr>
              <a:t>http://www.iris.edu/ieb</a:t>
            </a:r>
            <a:endParaRPr b="0" lang="en-US" sz="1100" spc="-1" strike="noStrike">
              <a:solidFill>
                <a:srgbClr val="000000"/>
              </a:solidFill>
              <a:latin typeface="Calibri"/>
            </a:endParaRPr>
          </a:p>
        </p:txBody>
      </p:sp>
      <p:sp>
        <p:nvSpPr>
          <p:cNvPr id="1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481DD-7E5D-4940-9B4E-9C610317E2B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257480" y="720720"/>
            <a:ext cx="4800600" cy="3600360"/>
          </a:xfrm>
          <a:prstGeom prst="rect">
            <a:avLst/>
          </a:prstGeom>
          <a:ln w="0">
            <a:noFill/>
          </a:ln>
        </p:spPr>
      </p:sp>
      <p:sp>
        <p:nvSpPr>
          <p:cNvPr id="114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quake focal mechanisms? http://www.iris.edu/hq/programs/education_and_outreach/animations/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gathrust earthquakes  http://www.iris.edu/hq/programs/education_and_outreach/animations/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916E-60E6-4714-86B3-CF618BF971A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257480" y="720720"/>
            <a:ext cx="4800600" cy="3600360"/>
          </a:xfrm>
          <a:prstGeom prst="rect">
            <a:avLst/>
          </a:prstGeom>
          <a:ln w="0">
            <a:noFill/>
          </a:ln>
        </p:spPr>
      </p:sp>
      <p:sp>
        <p:nvSpPr>
          <p:cNvPr id="1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p:txBody>
      </p:sp>
      <p:sp>
        <p:nvSpPr>
          <p:cNvPr id="1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774A-C32D-42B8-A19D-125F350FD21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257480" y="720720"/>
            <a:ext cx="4800600" cy="3600360"/>
          </a:xfrm>
          <a:prstGeom prst="rect">
            <a:avLst/>
          </a:prstGeom>
          <a:ln w="0">
            <a:noFill/>
          </a:ln>
        </p:spPr>
      </p:sp>
      <p:sp>
        <p:nvSpPr>
          <p:cNvPr id="1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695B-30E1-4561-B9F9-A73FFAAF2E6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79D0A-2C31-405F-8E42-2643D0D6C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49AE3-DF17-4ADE-9453-938BCAA57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36B7A5-11DD-49D2-9A0B-CB8C713C64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54A1CC-88AE-458B-B819-A96C287C22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61B7EB-2CCB-4B38-A828-AE6A111C56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A4ED71-0E5E-4DD0-AA70-C33F43E146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2FA747-1DAF-48E9-BDE1-1EFE08903B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15A580-141B-4E3C-9D17-FD9A296D70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FD33A6-0FAE-49A5-8542-5ABC4AF5C1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E8FD0E-19FC-404C-A3D2-501D871323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5E3346-B21C-4EB2-A070-40C2E8B62E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96CEA6C-E506-44A9-884E-AB7CBEA1B51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4AD6F-923F-49BC-A45E-32938CC58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9F4EA3-C7CF-43A6-973E-E6A8767F53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8F54C0-7A48-46C6-9BCD-E9ADE8DACD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F26D85-2F70-492A-9A07-F3C92B999B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9C012D-4B2E-4564-8278-4EFFCDBF90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3C679F-0077-40A2-A9CA-483FB2435D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ADEBDE-45E8-446C-BEA0-299209FF0D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6733F9-10EF-4C9E-9324-12A9F14114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B761FA-7F7E-483D-8A46-9D77E6ABB3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8EF294-09CA-4675-BC5B-1C493668A8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B30832B-086D-4023-AEF4-C037695BB9E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8F70A-8B6B-4796-9141-49109014A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0F036F-88D5-4683-9F9C-871C5598C25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114B418-315D-4EA0-8C49-34B8D44F305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C49B63-5360-454A-B8BC-67C72F2403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DB9C84-B86C-44B0-8D71-6CE0B62E48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FA4D33-EC66-4F7E-BE73-300A41C51F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FEA50D-E5BC-4523-BD8E-C125BCF29C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2374C7-C401-4F75-844B-401148634E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7DD824-620C-4E47-8858-01EAF44C7E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ED2C0A-D775-4BE8-AD1A-BFEB88F5A9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F02BB0-FA5B-4EC0-B203-EC3A4DA714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5C8F5F-461E-4B4A-A740-5AA8159F8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F752C0-AB62-4ACB-BABE-2FDEAC3876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9143997-635F-4B77-8380-B3E1FB082FC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F1A9320-E415-4B75-8171-51EC8809D2D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D0FEE3E-4016-4D4B-9E69-17BB9E0AB35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AC8756-018D-4BB1-8FC9-9BA9F2DED3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55024B-3B22-402A-B415-ED9A11C645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FA3B48-431D-4449-B339-044117D67F9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98A938-FFBE-41B6-AA4B-7948856B1E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CCE36A-4D60-4A89-8981-9D8BF4CC02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AE4631-3E73-41AC-B8AB-6350C93AAC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17849-3272-4C5D-83E7-979C5C0C8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D9A36A-7664-4C00-92B6-292FD87A85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A65D68-382A-421B-8EFB-760856036D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14F5AE-F588-4BC1-9F4B-9A7914BD53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848E439-4954-47BF-9885-E83250F899C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C7F42B-0E2C-468A-8373-4F13628BF68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742E323-48DE-436B-BD00-D90BDF6727F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693A21F-770C-4D7E-A00C-ECFF574EF08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599A435-DCD8-416A-95DB-01F60C9EC4A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E52CB0D-A2EA-455C-AFF4-460FED3A873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073E2D-1692-482E-A793-13BDEF6588D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57BDF-21E2-4F92-A84E-C4409E7E5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B033001-4366-480A-982F-9F47E3C8B70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47EC13-C2D0-4100-8100-0A1F94B0A1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D54FB0-51F1-477F-99F4-62328668EA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97A9EA-FDC9-4D63-A783-7FD72B87C4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2D7E4FD-1CF7-4245-A95F-0A694F0CF5E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678A251-18F2-4CF7-B510-AA51D4CA281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AFCEF5F-874F-46A2-A1BA-AEA94672452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98615C7-F85E-4DCC-B0B7-FFA674178D2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FD67DC0-611B-43EF-9132-CFF87D09752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2AFB029-DFB4-488A-B7C7-9CB0DC7FAB7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3AAAF-7E13-44E7-8B08-D7C806A4E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2C01F8D-88B5-4E6B-8B7F-B40517958AE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1699519-52D6-4FAF-BDB6-9106ECCC55C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E6AB34A-A11B-432F-B2F7-0780F7B263E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7C43666-F784-44B2-AB13-A8D39E8868F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4D1032-82F3-46BA-9287-FDF2BCF9D2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9AB923-244F-4D12-B763-591218AE31D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9DA7466-B11A-45F5-9166-76C6FE9CB6C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3F62446-84C5-46BC-9C33-D93DAA3F0FF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0FFC060-3F5D-45B8-8BA1-0D1930AFD8B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CB8E2B0-E31A-4AFA-BAC8-EDD26D190C2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9DB0D-D6B5-4B4A-A79D-032E2AEE4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B645744-95F0-493C-9332-1BC545C901C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0DE9CBE-F5BB-4CF1-8D7C-201BEA55E47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172420B-7799-44BE-855E-9634BD220DD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C52C64D-10EE-48C2-92AD-8EB0FD43494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D3786D3-2559-4AE9-806E-9F304BDE96E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678EA9C-3E2A-46D4-BDE8-15F2AE896F6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1489C37-266B-4C32-AE0E-8E0B244E88F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6E3AD7B-DABF-4240-9786-F1705EAF5A2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C073107-D726-465B-8680-093A06D85EB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0D33F42-2A49-415F-85DF-13C4D1F7790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2C284-5CC7-457A-9E79-9D933E76E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DC29C2E-7515-4E25-B42D-DFC3D2D6BE3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706BDC1-8409-4BCF-8C55-078FD1405D6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62F9B01-5651-40E4-886D-5CEE239C78C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E058B50-C0DB-4441-A773-7EEC6A56D1F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CB9CDF3-3CB0-4FE8-8664-B9EF1CE18B9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1FF3014-CD92-4B2A-BFC0-350D04455BA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12C000A-0881-475E-9430-2821FBF1441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CFCFB18-9F32-464C-A856-C422155F167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A024CDE-E142-49C9-923A-BCB5D7C9C44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BDF7B93-A4BA-45C7-B8E5-2B48DB95479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ED40F-5DE5-4636-B870-D4B665803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AFAFDD5-8FE7-4373-83BD-18B42F78A03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AE6CD8A-1F70-4F76-8CA9-26017A4262B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70FF1B9-EFB9-4006-B72B-0A5F4AF569D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050C396-D303-44C3-875D-64F51ACBFC7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3743323-494E-4324-83AF-B91CBF0FE0A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86002F6-9BB0-440F-95EB-742CDB0A7E2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01F1A3B-FB9C-47B8-9B27-8976E4B91E6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E05603F-B1AA-4E29-A336-77952B35729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6850182-C7FE-4531-86F4-0DCE2358E6E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51030A6-3F70-4479-8AB6-9274C79B7C1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AE55C-F2FA-4AAE-B3D0-116500EF8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F66F8-BB17-4F33-9F1F-38CE73977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51B1EC4-AEBC-48E0-89B7-4829FF8F9E2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64C8EB8-C4F1-4E30-BDAB-252827296BC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4CB265C-ED86-4911-BC2B-F99673B8BEB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4B2C458-A410-49BB-A3D9-DFD4D1E3495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C41EDC4-2D8B-42EA-B807-74C7B6D5DEC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F241827-7340-49F1-AC71-58AA672127F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194CD88-BA09-40E5-878D-BD557289459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5793E0D-B987-456F-8BA7-A861128B830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53EB710-C140-4B0A-A5C3-8BD1AA44FB8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55B55F8-388B-4911-A64A-547EC182208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C90B3-5949-42EF-953C-B12F70216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AC80761-E09F-44B6-843C-2C86F561045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FD3F1F7-873E-4D3F-A6C4-02CB247AE96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607E38B-DA43-4859-B6CC-3655FE34F8B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FEC1363-3124-440B-94E2-A1C5FC1F8A1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F1431C6-F583-4DF4-8CCD-877B8724C93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68C38DA-59D8-4A5E-A1B4-6988BD6CED0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20F6C29-C30E-449E-947B-14C8C8EBABA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39C7C44-B028-424E-8A8E-08B686148DC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1A61F98-8F5F-495A-B79A-F62B533EA7B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78DC17D-5710-4A88-AF9D-5E7547556F9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B49FC-FDFF-42E2-BEE4-7725E747A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7212A5A-4452-43F7-A77A-25C781EDCDF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8391EE2-45DA-4366-BA9C-E4485598A06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4AE630E-3083-427B-B1BB-E6496F4AD5C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18B42F3-2B39-40C1-A7D3-B7D7730D59C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1249FF2-F6D1-49D2-8BC4-566B70BEC62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F7D3AF3-4B3A-41D2-AE5D-EF4EF403B68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CE328C0-3E12-4386-85B1-C9026237194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BD44850-9F30-47FF-B82F-7C0857A968A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29358D8-3A28-4810-ABA4-0DB98010A35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9C3E6A5-FF01-46BD-B50E-1586682FF37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04B36-3DAC-4759-8C89-D658C8039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B5DE592-4CF0-4496-A21C-F2E7EECEC29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66AE706-8652-467D-95CA-9ED0EDF548B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604AD27-EB6A-414E-85F4-4E8D1B8E892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4FA12A5-92BB-4BB1-BD47-9F6EF25F664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DF0C9F6-0C85-47D2-AE4C-A6A08A705FB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174C4A7-7C86-4FC5-8ACE-03EE0624D52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BCC269D-FE70-41BF-88BA-B6B22EFC3DB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925F683-6D8C-4CB6-B19D-B575A9F79D9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F06CFA7-FA78-440F-9FF9-A8920B8D1B6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84FA44D-6D63-4491-B154-4779FC3583B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7B3737-46F2-4606-B0F4-DD524474A0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C3EB56C-6307-4301-A56B-70E28D3B2C6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F76D5A1-7312-4AAC-BCE5-98D32334C19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B5EC941-C5E9-4E48-8931-CEDE923B22C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7310A23-8F39-4E37-8B8B-E767A1D1711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98DAA67-4C34-470B-A9F8-002378F3982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2623C9E-3D2E-4AFF-ABA8-CD134CC541A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36EC0E7-377F-41EF-8FFC-BA9BDEDFD66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BEA56C6-AE42-4AAB-A3BC-0F0FDBFC9C7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F61C621-04DA-40BE-8B4B-64D3932C92A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91EF3A7-8547-4B3D-AEE1-AD1D84DD49C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D0FF65-F2D6-450B-B22A-BFF6DE30E0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E63CCD6-90D9-491E-B165-936C64D692D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C9E6967-A007-4711-A5FD-C6FE04B712E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512B867-7C75-4C3D-8CEE-A8094AF2159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A28D7F1-E51D-4401-A23F-C06F3F87ECE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EA501B6-9C9E-4155-89E0-B590D333F6C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B076025-F00E-4627-9917-1A9BFDD235A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0927788-3970-4B64-835D-36444B2904C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EA7F9CB-B61F-47D7-8A5F-A0AD1B9F678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C5845C0-6B32-4FFB-A4B2-5F9C5680009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96DBD65-AE47-496B-BADE-0D7241686CB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7F0FFD-C124-45F7-A4E3-65E8A6B000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2A6D097-D87C-46C7-A159-989F4C0EFBF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202A538-5F66-445B-B9B5-F0E0935BFC2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26469B5-240D-4014-A706-6C0BCDCFD2D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96AF8D2-F591-4037-B2DF-56D68459A59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A715D29-2AA1-46A9-B869-37A82EFB98F4}"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9B7451E-52B8-493E-A99D-20268095166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7234692-4E7B-49E7-B62F-052DB3840CE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B5857F9-0C15-4778-B712-32364D9EE17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3BB4F22-9226-4070-AD94-6ABA11D93BA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41FB1F3-AB05-4CB3-BE22-3A843C39038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94739C-DEC5-4938-9970-8ECDE6D29A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BE5AB3F-447A-4DE2-BFE3-50B05D50BFF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7A1B0F2-8477-4A1D-8890-A1A42C01F10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B0E6ED3-FDB4-405B-90DD-61969FBD4BA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BD1BC3B-C410-4231-B433-2942683C733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C4A6BB2-7E67-48CE-B8F7-523292D833C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987AE50-AB28-4B24-83D2-FFAF32A1FAB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B6ADF5B-A900-4C5E-911D-7053002A276E}"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60B4837-35E6-465D-BBB3-915F34CCA1D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B0B3443-A690-44AC-887F-24717D243DB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379CFB8-92FD-4378-989E-8B7A9C5BD18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068F48-934C-40D3-8744-84FA64ADF6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21BFFB2-E7EE-44C4-A6CD-E715D6A7073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48DB11E-74EB-4165-8787-6A0647D7F84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8691B3A-2CF6-43BB-A38E-1207D5295F7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05A9BE9-194C-4717-B23F-557DD79CD85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58F22B4-4898-4E99-973C-78A333A3C11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2E08CF5-3F1F-454C-BD56-89913E295F6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165B7DB-C371-4BD3-925F-5D8C1E09E09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13CEAFA-8D45-49DD-BEE2-130B3C72C53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65FA881-5F8B-4A0C-B2DE-8FD7B89C7BF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37755A9-FEC2-4702-9BB9-2A339F10592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18B09C-2A1F-44BB-9907-9DF62C2828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5216983-7702-4F44-9954-B7D5B4D0380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A0489C5-D4DA-440D-9F87-C96FF5EEF0E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41D7048-087C-485E-966B-6F1E28A5079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590ECF2-160C-46A5-B628-09EE371A307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C8CCDCF-4729-4D49-B7DC-CAB5F3868A6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25AC112-29E3-4962-8B8F-77902D11BD2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638EA49-CD38-41B2-BC49-8483F71282F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CB55677-C432-4E14-9333-382542BB230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34A206E-ADB1-4873-9F99-8AE83925C73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9CF5935-B93A-4868-BA6B-ACD837EDC9D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7FD68-6FC1-4FF8-9848-858145EB8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0A6131-139B-4C4D-B4CC-B30103D652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D30D34E-7C5C-408F-A7E7-37C98CF032B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7392F3-001A-46A3-BE5F-0CF1043531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C54516-C57F-4CF4-9CFD-16CD3B5DF4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642D77-B318-48D7-88B7-1DE1D8ACEE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5DFBFF-1799-40EC-BB05-7C2B1E88A1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907E2E-BCCD-49A0-BD50-AF4AB1D96A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2AFB48-828D-428A-B1AD-CFD399EA8A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3CFF72-E9F7-40E2-AF70-1B28DE8F96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D83B57-0C8D-4B30-B711-9F31D14F44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53AFB5-E298-4A3F-9A63-9AF09DA2BF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85659-589B-444E-9F55-EE4D79F33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4F6047-62DC-4C43-B5E5-189659F9EE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6CAE7B-2C9A-458B-A84A-48F1DEA9B7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D5A5D8-47C9-4F9D-B4F7-E9111E8EA8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15CFC7-6FC1-4B1B-99EA-5C309BF0F6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351522-CC14-4E23-B0B3-8372428DFB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2E47AC-F304-46FE-B6F7-4C8ED6A997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55233C-290A-4D0B-98E3-A39C77A4EC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655441-6990-4ACE-8624-E043381257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7617A1-281F-4D67-AA0B-893924B4D1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5BC9AA-263C-4DE4-A872-0D82376BC3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A37CA-3B08-4617-A0D3-79FED8160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37F64F-E293-44F9-AF97-6417750FC1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C81266-DA53-4721-BFFE-5DD567F557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8D022C-E794-49C0-B89B-90C70FB07A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533DB6-842C-47F8-8214-DA9F9FB5B6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AF133E-96A8-4190-B0CE-8F062FA1F2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8DF449-53F8-404F-A8D3-146742DCE5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B995ED-3D7B-47EB-8E6A-5CE9EB0BCF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836CBD-2F18-40AE-ABB4-C985810B26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36DB28-495B-457C-A236-EA9EEBE479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EF91DC-8927-4F0A-A79F-B30915DEE8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C0BDE-599A-4CFA-8949-BEF95682B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7236D8-07FA-4523-A038-0FF1824841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C8A6FF-2660-41F6-8D14-1C4314584F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BA977E-C877-46F3-92AA-504CC42579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88E8A4-15CF-41A8-9DBC-AA9FC6A5BF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B2EB70-D4D1-405F-ADA3-215B08486B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954302-645D-40BF-BB68-7BE2412BAB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560881-675E-4146-B86A-CCF9FA8C60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353FAA-518E-476B-A648-70BA6D4A32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816EEE-4C19-40DF-8E2D-EDBAE1B392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AAA863-DC45-4230-BDE3-2DC4A9D9AA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7A741-2C6B-4824-B7A2-7E7B418CD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CB2BAB-A34D-4CB6-A92A-2894A1B84F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984561-FE17-4DC5-8667-AFAB1DF2DF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44E113-C2FA-4364-9A0E-D69DF7B622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97A6FA-B9C6-468D-B7F8-08D141AD49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AC423A-A57D-4737-8911-4419DEB1BD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CB5A96-49F2-495A-972B-3895B8DD18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6C056F-BBE3-4AA3-AFC5-D043B6EA6F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78E692-2B92-41D5-B287-BF8D56B6BF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E252E7-F3B1-4CE2-A756-680CEE509B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7BE210-0374-41DA-AC17-91BB876208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B0259-38BA-4CAB-A076-4C59DC5FF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363FA1-DE1A-438B-9F8C-24174C7FF2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31AA39-A46A-4C30-92DB-2776C16AAD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DA6B5D-81B3-4AA4-9056-63F738022F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DC22D7-9064-444D-881E-614CDFD1CB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4F97B4-2BA7-44FF-BDB4-7319C11C54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04F4B1-2621-4367-81C7-E6A5469B52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520856-504A-4CA3-AAE5-A2AF64CF8B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E8CAD7-3DD0-4C83-931E-0B31A4EBCE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E990A9-97AF-4258-8EEE-FE1DAF083C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E25340-1C68-44D9-98A2-E2B137DE3E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7884C-21FE-48C3-A5D6-21652A043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823DFD-363C-4AD1-A7E9-56DF7E5F2B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9C4F6D-B389-4D24-B932-7BFC7BEFEE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2E64CB-F32F-4745-931E-0E1E61C71A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A2BCB9-F064-44B0-BB9A-E94713AD17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E7E3BD-3ADF-4A93-8D42-8607FA25DF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73207F-E588-4CEE-96E5-39118CEDEB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0396C6-4105-4AB4-B925-3A6C04EBE8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748A08-DAE9-4508-A534-6B6581DB37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A8F237-897B-41C5-A587-E98ACEBFD0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492095-2DA1-4C1C-B916-7F32584780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379A-C330-401A-B0ED-E1A832F195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1A76-17A0-41A9-965C-79422EC5A5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3121-9B08-419E-B941-14328646CE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CA4F-253A-4CE8-BDC3-0792071B38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7370E-63C3-48FB-9AB0-0B9D028534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B590-854F-47FE-8D1F-C28ECC6234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32FF6-B55E-44A4-B301-0949278D84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18"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7A3C-C18E-4ECF-B4A0-2198843FB9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59"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DD35-A996-4724-9F7E-B0AE85012A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0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3C99-D144-44BB-8CD5-4B9AA998B3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4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B3D14-03C2-481E-9FCB-20F7896C6E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DB808-6C57-4B56-AED0-4604EECEEA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82"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FB57-889A-4D72-9394-5F79139EDF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23"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DD86-61BC-45EE-96BE-68B4B28EC9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64"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30AB-ECFB-4246-81F9-75289D1F22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5"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245B-EEA0-42DA-A101-E182B05817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4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7FEF-55AB-4931-8779-CD74A13A69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87"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55D1-70A4-4653-BC87-E47DC5286A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124055-ADDD-4D62-B13B-852D3ACC62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E720-DF20-4008-AFAE-50CF041711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281B2-B9D1-4C4C-94B6-5461D4B636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314C4-E602-4950-9405-7C8B2D7991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D82B-E477-4AD4-828F-6E69FD4694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721C-DE5C-4D20-8196-7648274DBF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7F0EC-F0D0-4A59-A607-C4ACF3C8D8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37.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7.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tkb@iris.edu" TargetMode="External"/><Relationship Id="rId2" Type="http://schemas.openxmlformats.org/officeDocument/2006/relationships/hyperlink" Target="http://www.iris.edu/hq/retm" TargetMode="External"/><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69.xml"/><Relationship Id="rId7"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3" name="Picture 8" descr="IRIS_TMlogo.png"/>
          <p:cNvPicPr/>
          <p:nvPr/>
        </p:nvPicPr>
        <p:blipFill>
          <a:blip r:embed="rId1"/>
          <a:stretch/>
        </p:blipFill>
        <p:spPr>
          <a:xfrm>
            <a:off x="239760" y="76320"/>
            <a:ext cx="903240" cy="927000"/>
          </a:xfrm>
          <a:prstGeom prst="rect">
            <a:avLst/>
          </a:prstGeom>
          <a:ln w="0">
            <a:noFill/>
          </a:ln>
        </p:spPr>
      </p:pic>
      <p:sp>
        <p:nvSpPr>
          <p:cNvPr id="1034" name="TextBox 14"/>
          <p:cNvSpPr/>
          <p:nvPr/>
        </p:nvSpPr>
        <p:spPr>
          <a:xfrm>
            <a:off x="241200" y="1082520"/>
            <a:ext cx="6845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7.5 earthquake occurred 33 kilometers (20 miles) southwest of Tari, Papua New Guinea, at a depth of 35 km (22 miles). Papua New Guinea is located on the eastern half of the island of New Guinea, to the east of Indonesia. It is home to about 7 million peo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e were no immediate reports of injur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5" name="Picture 1" descr=""/>
          <p:cNvPicPr/>
          <p:nvPr/>
        </p:nvPicPr>
        <p:blipFill>
          <a:blip r:embed="rId2"/>
          <a:stretch/>
        </p:blipFill>
        <p:spPr>
          <a:xfrm>
            <a:off x="318960" y="3619440"/>
            <a:ext cx="3338640" cy="2652840"/>
          </a:xfrm>
          <a:prstGeom prst="rect">
            <a:avLst/>
          </a:prstGeom>
          <a:ln w="0">
            <a:noFill/>
          </a:ln>
        </p:spPr>
      </p:pic>
      <p:pic>
        <p:nvPicPr>
          <p:cNvPr id="1036" name="Picture 2" descr=""/>
          <p:cNvPicPr/>
          <p:nvPr/>
        </p:nvPicPr>
        <p:blipFill>
          <a:blip r:embed="rId3"/>
          <a:stretch/>
        </p:blipFill>
        <p:spPr>
          <a:xfrm>
            <a:off x="7315200" y="681120"/>
            <a:ext cx="1681200" cy="1681200"/>
          </a:xfrm>
          <a:prstGeom prst="rect">
            <a:avLst/>
          </a:prstGeom>
          <a:ln w="0">
            <a:noFill/>
          </a:ln>
        </p:spPr>
      </p:pic>
      <p:sp>
        <p:nvSpPr>
          <p:cNvPr id="103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grpSp>
        <p:nvGrpSpPr>
          <p:cNvPr id="1038" name="Group 1"/>
          <p:cNvGrpSpPr/>
          <p:nvPr/>
        </p:nvGrpSpPr>
        <p:grpSpPr>
          <a:xfrm>
            <a:off x="4064040" y="3186000"/>
            <a:ext cx="4865760" cy="3443400"/>
            <a:chOff x="4064040" y="3186000"/>
            <a:chExt cx="4865760" cy="3443400"/>
          </a:xfrm>
        </p:grpSpPr>
        <p:pic>
          <p:nvPicPr>
            <p:cNvPr id="1039" name="Picture 4" descr=""/>
            <p:cNvPicPr/>
            <p:nvPr/>
          </p:nvPicPr>
          <p:blipFill>
            <a:blip r:embed="rId4"/>
            <a:stretch/>
          </p:blipFill>
          <p:spPr>
            <a:xfrm>
              <a:off x="4064040" y="3186000"/>
              <a:ext cx="4865760" cy="3443400"/>
            </a:xfrm>
            <a:prstGeom prst="rect">
              <a:avLst/>
            </a:prstGeom>
            <a:ln w="0">
              <a:noFill/>
            </a:ln>
          </p:spPr>
        </p:pic>
        <p:sp>
          <p:nvSpPr>
            <p:cNvPr id="1040" name="TextBox 13"/>
            <p:cNvSpPr/>
            <p:nvPr/>
          </p:nvSpPr>
          <p:spPr>
            <a:xfrm>
              <a:off x="7086600" y="52434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eb4e3"/>
                  </a:solidFill>
                  <a:latin typeface="Times New Roman"/>
                  <a:ea typeface="Times New Roman"/>
                </a:rPr>
                <a:t>Solomon Sea</a:t>
              </a:r>
              <a:endParaRPr b="0" lang="en-US" sz="1200" spc="-1" strike="noStrike">
                <a:solidFill>
                  <a:srgbClr val="000000"/>
                </a:solidFill>
                <a:latin typeface="Arial"/>
              </a:endParaRPr>
            </a:p>
          </p:txBody>
        </p:sp>
        <p:sp>
          <p:nvSpPr>
            <p:cNvPr id="1041" name="TextBox 5"/>
            <p:cNvSpPr/>
            <p:nvPr/>
          </p:nvSpPr>
          <p:spPr>
            <a:xfrm>
              <a:off x="5181480" y="4633920"/>
              <a:ext cx="9842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a:ea typeface="ＭＳ Ｐゴシック"/>
                </a:rPr>
                <a:t>Papua New Guinea</a:t>
              </a:r>
              <a:endParaRPr b="0" lang="en-US" sz="1000" spc="-1" strike="noStrike">
                <a:solidFill>
                  <a:srgbClr val="000000"/>
                </a:solidFill>
                <a:latin typeface="Arial"/>
              </a:endParaRPr>
            </a:p>
          </p:txBody>
        </p:sp>
        <p:sp>
          <p:nvSpPr>
            <p:cNvPr id="1042" name="TextBox 18"/>
            <p:cNvSpPr/>
            <p:nvPr/>
          </p:nvSpPr>
          <p:spPr>
            <a:xfrm>
              <a:off x="6040440" y="4348080"/>
              <a:ext cx="984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a:ea typeface="ＭＳ Ｐゴシック"/>
                </a:rPr>
                <a:t>New Britain</a:t>
              </a:r>
              <a:endParaRPr b="0" lang="en-US" sz="1000" spc="-1" strike="noStrike">
                <a:solidFill>
                  <a:srgbClr val="000000"/>
                </a:solidFill>
                <a:latin typeface="Arial"/>
              </a:endParaRPr>
            </a:p>
          </p:txBody>
        </p:sp>
        <p:sp>
          <p:nvSpPr>
            <p:cNvPr id="1043" name="TextBox 19"/>
            <p:cNvSpPr/>
            <p:nvPr/>
          </p:nvSpPr>
          <p:spPr>
            <a:xfrm>
              <a:off x="7836120" y="4427280"/>
              <a:ext cx="9842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a:ea typeface="ＭＳ Ｐゴシック"/>
                </a:rPr>
                <a:t>Bougainville Island</a:t>
              </a:r>
              <a:endParaRPr b="0" lang="en-US" sz="1000" spc="-1" strike="noStrike">
                <a:solidFill>
                  <a:srgbClr val="000000"/>
                </a:solidFill>
                <a:latin typeface="Arial"/>
              </a:endParaRPr>
            </a:p>
          </p:txBody>
        </p:sp>
        <p:sp>
          <p:nvSpPr>
            <p:cNvPr id="1044" name="TextBox 20"/>
            <p:cNvSpPr/>
            <p:nvPr/>
          </p:nvSpPr>
          <p:spPr>
            <a:xfrm>
              <a:off x="4117680" y="4187520"/>
              <a:ext cx="984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a:ea typeface="ＭＳ Ｐゴシック"/>
                </a:rPr>
                <a:t>Papua</a:t>
              </a:r>
              <a:endParaRPr b="0" lang="en-US" sz="1000" spc="-1" strike="noStrike">
                <a:solidFill>
                  <a:srgbClr val="000000"/>
                </a:solidFill>
                <a:latin typeface="Arial"/>
              </a:endParaRPr>
            </a:p>
          </p:txBody>
        </p:sp>
        <p:sp>
          <p:nvSpPr>
            <p:cNvPr id="1045" name="5-Point Star 6"/>
            <p:cNvSpPr/>
            <p:nvPr/>
          </p:nvSpPr>
          <p:spPr>
            <a:xfrm>
              <a:off x="5102280" y="4672080"/>
              <a:ext cx="297360" cy="297360"/>
            </a:xfrm>
            <a:custGeom>
              <a:avLst/>
              <a:gdLst>
                <a:gd name="textAreaLeft" fmla="*/ 0 w 297360"/>
                <a:gd name="textAreaRight" fmla="*/ 297720 w 297360"/>
                <a:gd name="textAreaTop" fmla="*/ 0 h 297360"/>
                <a:gd name="textAreaBottom" fmla="*/ 297720 h 29736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7" name="Picture 12" descr="scale.jpg"/>
          <p:cNvPicPr/>
          <p:nvPr/>
        </p:nvPicPr>
        <p:blipFill>
          <a:blip r:embed="rId1"/>
          <a:stretch/>
        </p:blipFill>
        <p:spPr>
          <a:xfrm>
            <a:off x="380880" y="4070520"/>
            <a:ext cx="2127240" cy="2319120"/>
          </a:xfrm>
          <a:prstGeom prst="rect">
            <a:avLst/>
          </a:prstGeom>
          <a:ln w="0">
            <a:noFill/>
          </a:ln>
        </p:spPr>
      </p:pic>
      <p:sp>
        <p:nvSpPr>
          <p:cNvPr id="1048" name="TextBox 13"/>
          <p:cNvSpPr/>
          <p:nvPr/>
        </p:nvSpPr>
        <p:spPr>
          <a:xfrm>
            <a:off x="271440" y="37195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1049" name="TextBox 14"/>
          <p:cNvSpPr/>
          <p:nvPr/>
        </p:nvSpPr>
        <p:spPr>
          <a:xfrm>
            <a:off x="2541600" y="35053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0" name="TextBox 15"/>
          <p:cNvSpPr/>
          <p:nvPr/>
        </p:nvSpPr>
        <p:spPr>
          <a:xfrm>
            <a:off x="4089240" y="6261120"/>
            <a:ext cx="4876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Estimated shaking Intensity from M 7.5 Earthquake</a:t>
            </a:r>
            <a:endParaRPr b="0" lang="en-US" sz="1400" spc="-1" strike="noStrike">
              <a:solidFill>
                <a:srgbClr val="000000"/>
              </a:solidFill>
              <a:latin typeface="Arial"/>
            </a:endParaRPr>
          </a:p>
        </p:txBody>
      </p:sp>
      <p:sp>
        <p:nvSpPr>
          <p:cNvPr id="1051" name="TextBox 15"/>
          <p:cNvSpPr/>
          <p:nvPr/>
        </p:nvSpPr>
        <p:spPr>
          <a:xfrm>
            <a:off x="212760" y="1170000"/>
            <a:ext cx="3722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ale is a twelve-stage scal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to XII, that indicates the seve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ose nearest the earthquake experienced violent sha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2" name="Picture 8" descr="IRIS_TMlogo.png"/>
          <p:cNvPicPr/>
          <p:nvPr/>
        </p:nvPicPr>
        <p:blipFill>
          <a:blip r:embed="rId2"/>
          <a:stretch/>
        </p:blipFill>
        <p:spPr>
          <a:xfrm>
            <a:off x="239760" y="76320"/>
            <a:ext cx="903240" cy="927000"/>
          </a:xfrm>
          <a:prstGeom prst="rect">
            <a:avLst/>
          </a:prstGeom>
          <a:ln w="0">
            <a:noFill/>
          </a:ln>
        </p:spPr>
      </p:pic>
      <p:sp>
        <p:nvSpPr>
          <p:cNvPr id="1053" name="TextBox 15"/>
          <p:cNvSpPr/>
          <p:nvPr/>
        </p:nvSpPr>
        <p:spPr>
          <a:xfrm>
            <a:off x="252360" y="652608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pic>
        <p:nvPicPr>
          <p:cNvPr id="1054" name="Picture 1" descr=""/>
          <p:cNvPicPr/>
          <p:nvPr/>
        </p:nvPicPr>
        <p:blipFill>
          <a:blip r:embed="rId3"/>
          <a:stretch/>
        </p:blipFill>
        <p:spPr>
          <a:xfrm>
            <a:off x="3854520" y="1295280"/>
            <a:ext cx="5132160" cy="4965840"/>
          </a:xfrm>
          <a:prstGeom prst="rect">
            <a:avLst/>
          </a:prstGeom>
          <a:ln w="0">
            <a:noFill/>
          </a:ln>
        </p:spPr>
      </p:pic>
      <p:sp>
        <p:nvSpPr>
          <p:cNvPr id="105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Box 15"/>
          <p:cNvSpPr/>
          <p:nvPr/>
        </p:nvSpPr>
        <p:spPr>
          <a:xfrm>
            <a:off x="5186520" y="6555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1058" name="Picture 8" descr="IRIS_TMlogo.png"/>
          <p:cNvPicPr/>
          <p:nvPr/>
        </p:nvPicPr>
        <p:blipFill>
          <a:blip r:embed="rId1"/>
          <a:stretch/>
        </p:blipFill>
        <p:spPr>
          <a:xfrm>
            <a:off x="239760" y="76320"/>
            <a:ext cx="903240" cy="927000"/>
          </a:xfrm>
          <a:prstGeom prst="rect">
            <a:avLst/>
          </a:prstGeom>
          <a:ln w="0">
            <a:noFill/>
          </a:ln>
        </p:spPr>
      </p:pic>
      <p:sp>
        <p:nvSpPr>
          <p:cNvPr id="1059"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1060"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1061" name="TextBox 18"/>
          <p:cNvSpPr/>
          <p:nvPr/>
        </p:nvSpPr>
        <p:spPr>
          <a:xfrm>
            <a:off x="243000" y="1095480"/>
            <a:ext cx="4405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The USGS estimates that 40,000 people felt violent shaking from this earthquake.</a:t>
            </a:r>
            <a:endParaRPr b="0" lang="en-US" sz="1800" spc="-1" strike="noStrike">
              <a:solidFill>
                <a:srgbClr val="000000"/>
              </a:solidFill>
              <a:latin typeface="Arial"/>
            </a:endParaRPr>
          </a:p>
        </p:txBody>
      </p:sp>
      <p:pic>
        <p:nvPicPr>
          <p:cNvPr id="1062" name="Picture 1" descr=""/>
          <p:cNvPicPr/>
          <p:nvPr/>
        </p:nvPicPr>
        <p:blipFill>
          <a:blip r:embed="rId2"/>
          <a:stretch/>
        </p:blipFill>
        <p:spPr>
          <a:xfrm>
            <a:off x="4584600" y="1179360"/>
            <a:ext cx="4348440" cy="4341960"/>
          </a:xfrm>
          <a:prstGeom prst="rect">
            <a:avLst/>
          </a:prstGeom>
          <a:ln w="0">
            <a:noFill/>
          </a:ln>
        </p:spPr>
      </p:pic>
      <p:pic>
        <p:nvPicPr>
          <p:cNvPr id="1063" name="Picture 2" descr=""/>
          <p:cNvPicPr/>
          <p:nvPr/>
        </p:nvPicPr>
        <p:blipFill>
          <a:blip r:embed="rId3"/>
          <a:stretch/>
        </p:blipFill>
        <p:spPr>
          <a:xfrm>
            <a:off x="604800" y="2697120"/>
            <a:ext cx="2933640" cy="4010040"/>
          </a:xfrm>
          <a:prstGeom prst="rect">
            <a:avLst/>
          </a:prstGeom>
          <a:ln w="0">
            <a:noFill/>
          </a:ln>
        </p:spPr>
      </p:pic>
      <p:sp>
        <p:nvSpPr>
          <p:cNvPr id="106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6" name="Picture 8" descr="IRIS_TMlogo.png"/>
          <p:cNvPicPr/>
          <p:nvPr/>
        </p:nvPicPr>
        <p:blipFill>
          <a:blip r:embed="rId1"/>
          <a:stretch/>
        </p:blipFill>
        <p:spPr>
          <a:xfrm>
            <a:off x="239760" y="76320"/>
            <a:ext cx="903240" cy="927000"/>
          </a:xfrm>
          <a:prstGeom prst="rect">
            <a:avLst/>
          </a:prstGeom>
          <a:ln w="0">
            <a:noFill/>
          </a:ln>
        </p:spPr>
      </p:pic>
      <p:sp>
        <p:nvSpPr>
          <p:cNvPr id="1067" name="TextBox 14"/>
          <p:cNvSpPr/>
          <p:nvPr/>
        </p:nvSpPr>
        <p:spPr>
          <a:xfrm>
            <a:off x="6049800" y="861840"/>
            <a:ext cx="30085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 part of the Australian Plate is broken into microplates that accommodate its convergence with the Pacific Plate.  Arrows on the map below show net motions relative to the Australian Plate.  The red star shows the location of this earthquake.</a:t>
            </a:r>
            <a:endParaRPr b="0" lang="en-US" sz="1400" spc="-1" strike="noStrike">
              <a:solidFill>
                <a:srgbClr val="000000"/>
              </a:solidFill>
              <a:latin typeface="Arial"/>
            </a:endParaRPr>
          </a:p>
        </p:txBody>
      </p:sp>
      <p:pic>
        <p:nvPicPr>
          <p:cNvPr id="1068" name="Picture 1" descr=""/>
          <p:cNvPicPr/>
          <p:nvPr/>
        </p:nvPicPr>
        <p:blipFill>
          <a:blip r:embed="rId2"/>
          <a:stretch/>
        </p:blipFill>
        <p:spPr>
          <a:xfrm>
            <a:off x="411120" y="990720"/>
            <a:ext cx="5608800" cy="3835440"/>
          </a:xfrm>
          <a:prstGeom prst="rect">
            <a:avLst/>
          </a:prstGeom>
          <a:ln w="0">
            <a:noFill/>
          </a:ln>
        </p:spPr>
      </p:pic>
      <p:sp>
        <p:nvSpPr>
          <p:cNvPr id="1069" name="TextBox 14"/>
          <p:cNvSpPr/>
          <p:nvPr/>
        </p:nvSpPr>
        <p:spPr>
          <a:xfrm>
            <a:off x="351000" y="4906800"/>
            <a:ext cx="46782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cific Plate converges rapidly with the Australian Plate. Earthquakes in this region are generally associated with the large-scale convergence of these two major plates and with the complex interactions of the associated microplates . Due to the location and the depth of 35 km (21 miles), this earthquake likely occurred within the crust of the Australian Plate.</a:t>
            </a:r>
            <a:endParaRPr b="0" lang="en-US" sz="1400" spc="-1" strike="noStrike">
              <a:solidFill>
                <a:srgbClr val="000000"/>
              </a:solidFill>
              <a:latin typeface="Arial"/>
            </a:endParaRPr>
          </a:p>
        </p:txBody>
      </p:sp>
      <p:sp>
        <p:nvSpPr>
          <p:cNvPr id="1070" name="Rectangle 6"/>
          <p:cNvSpPr/>
          <p:nvPr/>
        </p:nvSpPr>
        <p:spPr>
          <a:xfrm>
            <a:off x="1066680" y="2971800"/>
            <a:ext cx="304920" cy="366840"/>
          </a:xfrm>
          <a:prstGeom prst="rect">
            <a:avLst/>
          </a:prstGeom>
          <a:noFill/>
          <a:ln w="648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Straight Connector 8"/>
          <p:cNvSpPr/>
          <p:nvPr/>
        </p:nvSpPr>
        <p:spPr>
          <a:xfrm flipV="1">
            <a:off x="1371600" y="2730600"/>
            <a:ext cx="4070520" cy="241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Straight Connector 11"/>
          <p:cNvSpPr/>
          <p:nvPr/>
        </p:nvSpPr>
        <p:spPr>
          <a:xfrm>
            <a:off x="1371600" y="3338640"/>
            <a:ext cx="4070520" cy="3213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3" name="Picture 2" descr=""/>
          <p:cNvPicPr/>
          <p:nvPr/>
        </p:nvPicPr>
        <p:blipFill>
          <a:blip r:embed="rId3"/>
          <a:stretch/>
        </p:blipFill>
        <p:spPr>
          <a:xfrm>
            <a:off x="5445000" y="2730600"/>
            <a:ext cx="3586320" cy="3827520"/>
          </a:xfrm>
          <a:prstGeom prst="rect">
            <a:avLst/>
          </a:prstGeom>
          <a:ln w="9360">
            <a:solidFill>
              <a:srgbClr val="000000"/>
            </a:solidFill>
            <a:miter/>
          </a:ln>
          <a:effectLst>
            <a:outerShdw dist="38160" dir="10800000" blurRad="0" rotWithShape="0">
              <a:srgbClr val="808080">
                <a:alpha val="40000"/>
              </a:srgbClr>
            </a:outerShdw>
          </a:effectLst>
        </p:spPr>
      </p:pic>
      <p:sp>
        <p:nvSpPr>
          <p:cNvPr id="1074" name="Rectangle 13"/>
          <p:cNvSpPr/>
          <p:nvPr/>
        </p:nvSpPr>
        <p:spPr>
          <a:xfrm>
            <a:off x="5410080" y="6551640"/>
            <a:ext cx="381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SU; </a:t>
            </a:r>
            <a:r>
              <a:rPr b="0" i="1" lang="es-VE" sz="1200" spc="-1" strike="noStrike">
                <a:solidFill>
                  <a:srgbClr val="000000"/>
                </a:solidFill>
                <a:latin typeface="Arial"/>
              </a:rPr>
              <a:t>simplified from Hamilton (1979)</a:t>
            </a:r>
            <a:r>
              <a:rPr b="0" i="1" lang="en-US" sz="1200" spc="-1" strike="noStrike">
                <a:solidFill>
                  <a:srgbClr val="000000"/>
                </a:solidFill>
                <a:latin typeface="Arial"/>
              </a:rPr>
              <a:t> </a:t>
            </a:r>
            <a:endParaRPr b="0" lang="en-US" sz="1200" spc="-1" strike="noStrike">
              <a:solidFill>
                <a:srgbClr val="000000"/>
              </a:solidFill>
              <a:latin typeface="Arial"/>
            </a:endParaRPr>
          </a:p>
        </p:txBody>
      </p:sp>
      <p:sp>
        <p:nvSpPr>
          <p:cNvPr id="1075" name="5-Point Star 7"/>
          <p:cNvSpPr/>
          <p:nvPr/>
        </p:nvSpPr>
        <p:spPr>
          <a:xfrm>
            <a:off x="5867280" y="4792680"/>
            <a:ext cx="152640" cy="152280"/>
          </a:xfrm>
          <a:custGeom>
            <a:avLst/>
            <a:gdLst/>
            <a:ahLst/>
            <a:rect l="l" t="t" r="r" b="b"/>
            <a:pathLst>
              <a:path w="152400" h="152400">
                <a:moveTo>
                  <a:pt x="0" y="58211"/>
                </a:moveTo>
                <a:lnTo>
                  <a:pt x="58212" y="58212"/>
                </a:lnTo>
                <a:lnTo>
                  <a:pt x="76200" y="0"/>
                </a:lnTo>
                <a:lnTo>
                  <a:pt x="94188" y="58212"/>
                </a:lnTo>
                <a:lnTo>
                  <a:pt x="152400" y="58211"/>
                </a:lnTo>
                <a:lnTo>
                  <a:pt x="105305" y="94188"/>
                </a:lnTo>
                <a:lnTo>
                  <a:pt x="123294" y="152400"/>
                </a:lnTo>
                <a:lnTo>
                  <a:pt x="76200" y="116422"/>
                </a:lnTo>
                <a:lnTo>
                  <a:pt x="29106" y="152400"/>
                </a:lnTo>
                <a:lnTo>
                  <a:pt x="47095" y="94188"/>
                </a:lnTo>
                <a:lnTo>
                  <a:pt x="0" y="58211"/>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 descr=""/>
          <p:cNvPicPr/>
          <p:nvPr/>
        </p:nvPicPr>
        <p:blipFill>
          <a:blip r:embed="rId1"/>
          <a:stretch/>
        </p:blipFill>
        <p:spPr>
          <a:xfrm>
            <a:off x="3363840" y="1251000"/>
            <a:ext cx="5703840" cy="4540320"/>
          </a:xfrm>
          <a:prstGeom prst="rect">
            <a:avLst/>
          </a:prstGeom>
          <a:ln w="0">
            <a:noFill/>
          </a:ln>
        </p:spPr>
      </p:pic>
      <p:sp>
        <p:nvSpPr>
          <p:cNvPr id="107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9" name="Picture 18" descr="IRIS_TMlogo.png"/>
          <p:cNvPicPr/>
          <p:nvPr/>
        </p:nvPicPr>
        <p:blipFill>
          <a:blip r:embed="rId2"/>
          <a:stretch/>
        </p:blipFill>
        <p:spPr>
          <a:xfrm>
            <a:off x="239760" y="76320"/>
            <a:ext cx="903240" cy="927000"/>
          </a:xfrm>
          <a:prstGeom prst="rect">
            <a:avLst/>
          </a:prstGeom>
          <a:ln w="0">
            <a:noFill/>
          </a:ln>
        </p:spPr>
      </p:pic>
      <p:sp>
        <p:nvSpPr>
          <p:cNvPr id="1080" name="TextBox 14"/>
          <p:cNvSpPr/>
          <p:nvPr/>
        </p:nvSpPr>
        <p:spPr>
          <a:xfrm>
            <a:off x="306360" y="1150920"/>
            <a:ext cx="2849760" cy="5351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eismicity map covers the same region as the microplate tectonic map of the previous slide.  Locations of the most recent 1000 earthquakes of magnitude (M) </a:t>
            </a:r>
            <a:r>
              <a:rPr b="0" lang="en-US" sz="1600" spc="-1" strike="noStrike" u="sng">
                <a:solidFill>
                  <a:srgbClr val="000000"/>
                </a:solidFill>
                <a:uFillTx/>
                <a:latin typeface="Arial"/>
              </a:rPr>
              <a:t>&gt;</a:t>
            </a:r>
            <a:r>
              <a:rPr b="0" lang="en-US" sz="1600" spc="-1" strike="noStrike">
                <a:solidFill>
                  <a:srgbClr val="000000"/>
                </a:solidFill>
                <a:latin typeface="Arial"/>
              </a:rPr>
              <a:t> 5 are shown.  </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thquake depths increase from southwest to northeast across the New Britain Trench where the Solomon Sea microplate subducts beneath the much larger Pacific Plate.  </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y from this complexity, this earthquake occurred as intraplate faulting within the crust of the Australian Plate as is shown with a blue star.</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1" name="TextBox 16"/>
          <p:cNvSpPr/>
          <p:nvPr/>
        </p:nvSpPr>
        <p:spPr>
          <a:xfrm>
            <a:off x="4519440" y="5859360"/>
            <a:ext cx="39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p created with the IRIS Earthquake Browser</a:t>
            </a:r>
            <a:endParaRPr b="0" lang="en-US" sz="1400" spc="-1" strike="noStrike">
              <a:solidFill>
                <a:srgbClr val="000000"/>
              </a:solidFill>
              <a:latin typeface="Arial"/>
            </a:endParaRPr>
          </a:p>
        </p:txBody>
      </p:sp>
      <p:sp>
        <p:nvSpPr>
          <p:cNvPr id="1082" name="TextBox 30"/>
          <p:cNvSpPr/>
          <p:nvPr/>
        </p:nvSpPr>
        <p:spPr>
          <a:xfrm>
            <a:off x="3156120" y="4800600"/>
            <a:ext cx="2361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stralian Plate</a:t>
            </a:r>
            <a:endParaRPr b="0" lang="en-US" sz="2000" spc="-1" strike="noStrike">
              <a:solidFill>
                <a:srgbClr val="000000"/>
              </a:solidFill>
              <a:latin typeface="Arial"/>
            </a:endParaRPr>
          </a:p>
        </p:txBody>
      </p:sp>
      <p:sp>
        <p:nvSpPr>
          <p:cNvPr id="1083" name="TextBox 9"/>
          <p:cNvSpPr/>
          <p:nvPr/>
        </p:nvSpPr>
        <p:spPr>
          <a:xfrm rot="20295000">
            <a:off x="5326560" y="349056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a:t>
            </a:r>
            <a:endParaRPr b="0" lang="en-US" sz="1200" spc="-1" strike="noStrike">
              <a:solidFill>
                <a:srgbClr val="000000"/>
              </a:solidFill>
              <a:latin typeface="Arial"/>
            </a:endParaRPr>
          </a:p>
        </p:txBody>
      </p:sp>
      <p:sp>
        <p:nvSpPr>
          <p:cNvPr id="1084" name="TextBox 11"/>
          <p:cNvSpPr/>
          <p:nvPr/>
        </p:nvSpPr>
        <p:spPr>
          <a:xfrm rot="1794600">
            <a:off x="6241680" y="338184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nch</a:t>
            </a:r>
            <a:endParaRPr b="0" lang="en-US" sz="1200" spc="-1" strike="noStrike">
              <a:solidFill>
                <a:srgbClr val="000000"/>
              </a:solidFill>
              <a:latin typeface="Arial"/>
            </a:endParaRPr>
          </a:p>
        </p:txBody>
      </p:sp>
      <p:sp>
        <p:nvSpPr>
          <p:cNvPr id="1085" name="TextBox 16"/>
          <p:cNvSpPr/>
          <p:nvPr/>
        </p:nvSpPr>
        <p:spPr>
          <a:xfrm>
            <a:off x="6372360" y="1687680"/>
            <a:ext cx="185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ific Plate </a:t>
            </a:r>
            <a:endParaRPr b="0" lang="en-US" sz="2000" spc="-1" strike="noStrike">
              <a:solidFill>
                <a:srgbClr val="000000"/>
              </a:solidFill>
              <a:latin typeface="Arial"/>
            </a:endParaRPr>
          </a:p>
        </p:txBody>
      </p:sp>
      <p:sp>
        <p:nvSpPr>
          <p:cNvPr id="1086" name="TextBox 16"/>
          <p:cNvSpPr/>
          <p:nvPr/>
        </p:nvSpPr>
        <p:spPr>
          <a:xfrm>
            <a:off x="5776920" y="4105440"/>
            <a:ext cx="152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lomon Sea Plate</a:t>
            </a:r>
            <a:endParaRPr b="0" lang="en-US" sz="1200" spc="-1" strike="noStrike">
              <a:solidFill>
                <a:srgbClr val="000000"/>
              </a:solidFill>
              <a:latin typeface="Arial"/>
            </a:endParaRPr>
          </a:p>
        </p:txBody>
      </p:sp>
      <p:sp>
        <p:nvSpPr>
          <p:cNvPr id="1087" name="TextBox 9"/>
          <p:cNvSpPr/>
          <p:nvPr/>
        </p:nvSpPr>
        <p:spPr>
          <a:xfrm rot="20296200">
            <a:off x="5682600" y="3332160"/>
            <a:ext cx="61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itain</a:t>
            </a:r>
            <a:endParaRPr b="0" lang="en-US" sz="1200" spc="-1" strike="noStrike">
              <a:solidFill>
                <a:srgbClr val="000000"/>
              </a:solidFill>
              <a:latin typeface="Arial"/>
            </a:endParaRPr>
          </a:p>
        </p:txBody>
      </p:sp>
      <p:sp>
        <p:nvSpPr>
          <p:cNvPr id="1088" name="TextBox 16"/>
          <p:cNvSpPr/>
          <p:nvPr/>
        </p:nvSpPr>
        <p:spPr>
          <a:xfrm>
            <a:off x="4127400" y="286560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 Bismarck Plate</a:t>
            </a:r>
            <a:endParaRPr b="0" lang="en-US" sz="1200" spc="-1" strike="noStrike">
              <a:solidFill>
                <a:srgbClr val="000000"/>
              </a:solidFill>
              <a:latin typeface="Arial"/>
            </a:endParaRPr>
          </a:p>
        </p:txBody>
      </p:sp>
      <p:sp>
        <p:nvSpPr>
          <p:cNvPr id="1089" name="TextBox 16"/>
          <p:cNvSpPr/>
          <p:nvPr/>
        </p:nvSpPr>
        <p:spPr>
          <a:xfrm>
            <a:off x="3916440" y="233532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 Bismarck Plate</a:t>
            </a:r>
            <a:endParaRPr b="0" lang="en-US" sz="1200" spc="-1" strike="noStrike">
              <a:solidFill>
                <a:srgbClr val="000000"/>
              </a:solidFill>
              <a:latin typeface="Arial"/>
            </a:endParaRPr>
          </a:p>
        </p:txBody>
      </p:sp>
      <p:pic>
        <p:nvPicPr>
          <p:cNvPr id="1090" name="Picture 7" descr=""/>
          <p:cNvPicPr/>
          <p:nvPr/>
        </p:nvPicPr>
        <p:blipFill>
          <a:blip r:embed="rId3"/>
          <a:srcRect l="2103" t="1569" r="68382" b="20943"/>
          <a:stretch/>
        </p:blipFill>
        <p:spPr>
          <a:xfrm>
            <a:off x="8623440" y="1409760"/>
            <a:ext cx="339480" cy="1879560"/>
          </a:xfrm>
          <a:prstGeom prst="rect">
            <a:avLst/>
          </a:prstGeom>
          <a:ln w="0">
            <a:noFill/>
          </a:ln>
        </p:spPr>
      </p:pic>
      <p:pic>
        <p:nvPicPr>
          <p:cNvPr id="1091" name="Picture 26" descr=""/>
          <p:cNvPicPr/>
          <p:nvPr/>
        </p:nvPicPr>
        <p:blipFill>
          <a:blip r:embed="rId4"/>
          <a:srcRect l="2535" t="82052" r="36557" b="2398"/>
          <a:stretch/>
        </p:blipFill>
        <p:spPr>
          <a:xfrm>
            <a:off x="8272440" y="5324400"/>
            <a:ext cx="701640" cy="378000"/>
          </a:xfrm>
          <a:prstGeom prst="rect">
            <a:avLst/>
          </a:prstGeom>
          <a:ln w="0">
            <a:noFill/>
          </a:ln>
        </p:spPr>
      </p:pic>
      <p:sp>
        <p:nvSpPr>
          <p:cNvPr id="1092" name="5-Point Star 24"/>
          <p:cNvSpPr/>
          <p:nvPr/>
        </p:nvSpPr>
        <p:spPr>
          <a:xfrm>
            <a:off x="3670200" y="3417840"/>
            <a:ext cx="246240" cy="246240"/>
          </a:xfrm>
          <a:custGeom>
            <a:avLst/>
            <a:gdLst/>
            <a:ahLst/>
            <a:rect l="l" t="t" r="r" b="b"/>
            <a:pathLst>
              <a:path w="246134" h="246134">
                <a:moveTo>
                  <a:pt x="0" y="94015"/>
                </a:moveTo>
                <a:lnTo>
                  <a:pt x="94015" y="94015"/>
                </a:lnTo>
                <a:lnTo>
                  <a:pt x="123067" y="0"/>
                </a:lnTo>
                <a:lnTo>
                  <a:pt x="152119" y="94015"/>
                </a:lnTo>
                <a:lnTo>
                  <a:pt x="246134" y="94015"/>
                </a:lnTo>
                <a:lnTo>
                  <a:pt x="170074" y="152119"/>
                </a:lnTo>
                <a:lnTo>
                  <a:pt x="199126" y="246133"/>
                </a:lnTo>
                <a:lnTo>
                  <a:pt x="123067" y="188028"/>
                </a:lnTo>
                <a:lnTo>
                  <a:pt x="47008" y="246133"/>
                </a:lnTo>
                <a:lnTo>
                  <a:pt x="76060" y="152119"/>
                </a:lnTo>
                <a:lnTo>
                  <a:pt x="0" y="94015"/>
                </a:lnTo>
                <a:close/>
              </a:path>
            </a:pathLst>
          </a:custGeom>
          <a:solidFill>
            <a:srgbClr val="0070c0"/>
          </a:solidFill>
          <a:ln w="12600">
            <a:solidFill>
              <a:srgbClr val="bfbfb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TextBox 7"/>
          <p:cNvSpPr/>
          <p:nvPr/>
        </p:nvSpPr>
        <p:spPr>
          <a:xfrm>
            <a:off x="228600" y="1179360"/>
            <a:ext cx="4114800" cy="28371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ccording to the USGS, the location, depth and focal mechanism solution all indicate the earthquake occurred as a result of intraplate compressional faulting within Australian Plate.</a:t>
            </a: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the location of this earthquake, the Australian Plate is converging with the Pacific Plate, moving towards the east-northeast with respect to the Pacific Plate at a velocity of approximately 107 mm/yr. </a:t>
            </a:r>
            <a:endParaRPr b="0" lang="en-US" sz="1800" spc="-1" strike="noStrike">
              <a:solidFill>
                <a:srgbClr val="000000"/>
              </a:solidFill>
              <a:latin typeface="Arial"/>
            </a:endParaRPr>
          </a:p>
        </p:txBody>
      </p:sp>
      <p:sp>
        <p:nvSpPr>
          <p:cNvPr id="1095" name="TextBox 8"/>
          <p:cNvSpPr/>
          <p:nvPr/>
        </p:nvSpPr>
        <p:spPr>
          <a:xfrm>
            <a:off x="3505320" y="5479920"/>
            <a:ext cx="4965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nsion axis (T) reflects the minimum compressive stress direction.  The pressure axis (P) reflects the maximum compressive stress direction.</a:t>
            </a:r>
            <a:endParaRPr b="0" lang="en-US" sz="1400" spc="-1" strike="noStrike">
              <a:solidFill>
                <a:srgbClr val="000000"/>
              </a:solidFill>
              <a:latin typeface="Arial"/>
            </a:endParaRPr>
          </a:p>
        </p:txBody>
      </p:sp>
      <p:sp>
        <p:nvSpPr>
          <p:cNvPr id="1096" name="TextBox 11"/>
          <p:cNvSpPr/>
          <p:nvPr/>
        </p:nvSpPr>
        <p:spPr>
          <a:xfrm>
            <a:off x="380880" y="649764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phase Moment Tensor Solution</a:t>
            </a:r>
            <a:endParaRPr b="0" lang="en-US" sz="1400" spc="-1" strike="noStrike">
              <a:solidFill>
                <a:srgbClr val="000000"/>
              </a:solidFill>
              <a:latin typeface="Arial"/>
            </a:endParaRPr>
          </a:p>
        </p:txBody>
      </p:sp>
      <p:sp>
        <p:nvSpPr>
          <p:cNvPr id="1097"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8" name="Picture 8" descr="IRIS_TMlogo.png"/>
          <p:cNvPicPr/>
          <p:nvPr/>
        </p:nvPicPr>
        <p:blipFill>
          <a:blip r:embed="rId1"/>
          <a:stretch/>
        </p:blipFill>
        <p:spPr>
          <a:xfrm>
            <a:off x="239760" y="76320"/>
            <a:ext cx="903240" cy="927000"/>
          </a:xfrm>
          <a:prstGeom prst="rect">
            <a:avLst/>
          </a:prstGeom>
          <a:ln w="0">
            <a:noFill/>
          </a:ln>
        </p:spPr>
      </p:pic>
      <p:sp>
        <p:nvSpPr>
          <p:cNvPr id="1099" name="TextBox 8"/>
          <p:cNvSpPr/>
          <p:nvPr/>
        </p:nvSpPr>
        <p:spPr>
          <a:xfrm>
            <a:off x="4764240" y="4290840"/>
            <a:ext cx="423684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ional tectonic complexities involving the convergence of the Australian and Pacific Plates (click for animation)</a:t>
            </a:r>
            <a:endParaRPr b="0" lang="en-US" sz="1400" spc="-1" strike="noStrike">
              <a:solidFill>
                <a:srgbClr val="000000"/>
              </a:solidFill>
              <a:latin typeface="Arial"/>
            </a:endParaRPr>
          </a:p>
        </p:txBody>
      </p:sp>
      <p:sp>
        <p:nvSpPr>
          <p:cNvPr id="1100" name="Rectangle 7"/>
          <p:cNvSpPr/>
          <p:nvPr/>
        </p:nvSpPr>
        <p:spPr>
          <a:xfrm>
            <a:off x="5232240" y="6489720"/>
            <a:ext cx="3911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s courtesy of the U.S. Geological Survey</a:t>
            </a:r>
            <a:endParaRPr b="0" lang="en-US" sz="1400" spc="-1" strike="noStrike">
              <a:solidFill>
                <a:srgbClr val="000000"/>
              </a:solidFill>
              <a:latin typeface="Arial"/>
            </a:endParaRPr>
          </a:p>
        </p:txBody>
      </p:sp>
      <p:sp>
        <p:nvSpPr>
          <p:cNvPr id="110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pic>
        <p:nvPicPr>
          <p:cNvPr id="1102" name="Picture 4" descr=""/>
          <p:cNvPicPr/>
          <p:nvPr/>
        </p:nvPicPr>
        <p:blipFill>
          <a:blip r:embed="rId2"/>
          <a:stretch/>
        </p:blipFill>
        <p:spPr>
          <a:xfrm>
            <a:off x="517680" y="4049640"/>
            <a:ext cx="2514600" cy="2460600"/>
          </a:xfrm>
          <a:prstGeom prst="rect">
            <a:avLst/>
          </a:prstGeom>
          <a:ln w="0">
            <a:noFill/>
          </a:ln>
        </p:spPr>
      </p:pic>
      <p:pic>
        <p:nvPicPr>
          <p:cNvPr id="1103" name="SolomonVanuatu_EQ_Tectonics" descr=""/>
          <p:cNvPicPr/>
          <p:nvPr/>
        </p:nvPicPr>
        <p:blipFill>
          <a:blip r:embed="rId3"/>
          <a:stretch/>
        </p:blipFill>
        <p:spPr>
          <a:xfrm>
            <a:off x="4572000" y="1366920"/>
            <a:ext cx="4343400" cy="2895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03"/>
                    </p:tgtEl>
                  </p:cond>
                </p:stCondLst>
                <p:childTnLst>
                  <p:par>
                    <p:cTn id="3" fill="hold">
                      <p:stCondLst>
                        <p:cond evt="onClick">
                          <p:tgtEl>
                            <p:spTgt spid="110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4" name="Picture 1" descr=""/>
          <p:cNvPicPr/>
          <p:nvPr/>
        </p:nvPicPr>
        <p:blipFill>
          <a:blip r:embed="rId1"/>
          <a:stretch/>
        </p:blipFill>
        <p:spPr>
          <a:xfrm>
            <a:off x="457200" y="1347840"/>
            <a:ext cx="8400960" cy="5357880"/>
          </a:xfrm>
          <a:prstGeom prst="rect">
            <a:avLst/>
          </a:prstGeom>
          <a:ln w="0">
            <a:noFill/>
          </a:ln>
        </p:spPr>
      </p:pic>
      <p:sp>
        <p:nvSpPr>
          <p:cNvPr id="110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6" name="Picture 18" descr="IRIS_TMlogo.png"/>
          <p:cNvPicPr/>
          <p:nvPr/>
        </p:nvPicPr>
        <p:blipFill>
          <a:blip r:embed="rId2"/>
          <a:stretch/>
        </p:blipFill>
        <p:spPr>
          <a:xfrm>
            <a:off x="239760" y="76320"/>
            <a:ext cx="903240" cy="927000"/>
          </a:xfrm>
          <a:prstGeom prst="rect">
            <a:avLst/>
          </a:prstGeom>
          <a:ln w="0">
            <a:noFill/>
          </a:ln>
        </p:spPr>
      </p:pic>
      <p:sp>
        <p:nvSpPr>
          <p:cNvPr id="1107" name="TextBox 4"/>
          <p:cNvSpPr/>
          <p:nvPr/>
        </p:nvSpPr>
        <p:spPr>
          <a:xfrm>
            <a:off x="2209680" y="1395360"/>
            <a:ext cx="64785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he earthquake, it </a:t>
            </a:r>
            <a:r>
              <a:rPr b="0" lang="en-US" sz="1400" spc="-1" strike="noStrike">
                <a:solidFill>
                  <a:srgbClr val="000000"/>
                </a:solidFill>
                <a:latin typeface="Arial"/>
                <a:ea typeface="ＭＳ Ｐゴシック"/>
              </a:rPr>
              <a:t>took 13 minutes 40 seconds </a:t>
            </a:r>
            <a:r>
              <a:rPr b="0" lang="en-US" sz="1400" spc="-1" strike="noStrike">
                <a:solidFill>
                  <a:srgbClr val="000000"/>
                </a:solidFill>
                <a:latin typeface="Arial"/>
                <a:ea typeface="ＭＳ Ｐゴシック"/>
              </a:rPr>
              <a:t>for the compressional P waves to travel a curved path through the mantle to Bend, Oregon.</a:t>
            </a:r>
            <a:endParaRPr b="0" lang="en-US" sz="1400" spc="-1" strike="noStrike">
              <a:solidFill>
                <a:srgbClr val="000000"/>
              </a:solidFill>
              <a:latin typeface="Arial"/>
            </a:endParaRPr>
          </a:p>
        </p:txBody>
      </p:sp>
      <p:sp>
        <p:nvSpPr>
          <p:cNvPr id="1108" name="TextBox 7"/>
          <p:cNvSpPr/>
          <p:nvPr/>
        </p:nvSpPr>
        <p:spPr>
          <a:xfrm>
            <a:off x="1744560" y="828720"/>
            <a:ext cx="6332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record of the earthquake in Bend, Oregon (BNOR) is illustrated below. Bend is 10933 km (6793 miles, 98.5°) from the location of this earthquake. </a:t>
            </a:r>
            <a:endParaRPr b="0" lang="en-US" sz="1400" spc="-1" strike="noStrike">
              <a:solidFill>
                <a:srgbClr val="000000"/>
              </a:solidFill>
              <a:latin typeface="Arial"/>
            </a:endParaRPr>
          </a:p>
        </p:txBody>
      </p:sp>
      <p:sp>
        <p:nvSpPr>
          <p:cNvPr id="1109" name="TextBox 6"/>
          <p:cNvSpPr/>
          <p:nvPr/>
        </p:nvSpPr>
        <p:spPr>
          <a:xfrm>
            <a:off x="1749600" y="5494320"/>
            <a:ext cx="6781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rface waves traveled the 9973 km (6197 miles) along the perimeter of the Earth from the earthquake to the recording station. </a:t>
            </a:r>
            <a:r>
              <a:rPr b="0" lang="en-US" sz="1400" spc="-1" strike="noStrike">
                <a:solidFill>
                  <a:srgbClr val="000000"/>
                </a:solidFill>
                <a:latin typeface="Arial"/>
                <a:ea typeface="ＭＳ Ｐゴシック"/>
              </a:rPr>
              <a:t>The surface waves began to arrive in Bend about 30 minutes </a:t>
            </a:r>
            <a:r>
              <a:rPr b="0" lang="en-US" sz="1400" spc="-1" strike="noStrike">
                <a:solidFill>
                  <a:srgbClr val="000000"/>
                </a:solidFill>
                <a:latin typeface="Arial"/>
                <a:ea typeface="ＭＳ Ｐゴシック"/>
              </a:rPr>
              <a:t>after the earthquake occurred</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sp>
        <p:nvSpPr>
          <p:cNvPr id="1110" name="TextBox 9"/>
          <p:cNvSpPr/>
          <p:nvPr/>
        </p:nvSpPr>
        <p:spPr>
          <a:xfrm>
            <a:off x="1708200" y="4900680"/>
            <a:ext cx="6858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 waves are shear waves that follow the same path through the mantle as P waves.  S waves </a:t>
            </a:r>
            <a:r>
              <a:rPr b="0" lang="en-US" sz="1400" spc="-1" strike="noStrike">
                <a:solidFill>
                  <a:srgbClr val="000000"/>
                </a:solidFill>
                <a:latin typeface="Arial"/>
                <a:ea typeface="ＭＳ Ｐゴシック"/>
              </a:rPr>
              <a:t>took 25 minutes and 10 </a:t>
            </a:r>
            <a:r>
              <a:rPr b="0" lang="en-US" sz="1400" spc="-1" strike="noStrike">
                <a:solidFill>
                  <a:srgbClr val="000000"/>
                </a:solidFill>
                <a:latin typeface="Arial"/>
                <a:ea typeface="ＭＳ Ｐゴシック"/>
              </a:rPr>
              <a:t>seconds to travel from the earthquake to Bend.</a:t>
            </a:r>
            <a:endParaRPr b="0" lang="en-US" sz="1400" spc="-1" strike="noStrike">
              <a:solidFill>
                <a:srgbClr val="000000"/>
              </a:solidFill>
              <a:latin typeface="Arial"/>
            </a:endParaRPr>
          </a:p>
        </p:txBody>
      </p:sp>
      <p:sp>
        <p:nvSpPr>
          <p:cNvPr id="1111" name="TextBox 4"/>
          <p:cNvSpPr/>
          <p:nvPr/>
        </p:nvSpPr>
        <p:spPr>
          <a:xfrm>
            <a:off x="1676520" y="228600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112" name="TextBox 11"/>
          <p:cNvSpPr/>
          <p:nvPr/>
        </p:nvSpPr>
        <p:spPr>
          <a:xfrm>
            <a:off x="2952000" y="290196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a:t>
            </a:r>
            <a:endParaRPr b="0" lang="en-US" sz="1800" spc="-1" strike="noStrike">
              <a:solidFill>
                <a:srgbClr val="000000"/>
              </a:solidFill>
              <a:latin typeface="Arial"/>
            </a:endParaRPr>
          </a:p>
        </p:txBody>
      </p:sp>
      <p:sp>
        <p:nvSpPr>
          <p:cNvPr id="1113" name="TextBox 11"/>
          <p:cNvSpPr/>
          <p:nvPr/>
        </p:nvSpPr>
        <p:spPr>
          <a:xfrm>
            <a:off x="4910040" y="2525760"/>
            <a:ext cx="2152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Waves</a:t>
            </a:r>
            <a:endParaRPr b="0" lang="en-US" sz="1800" spc="-1" strike="noStrike">
              <a:solidFill>
                <a:srgbClr val="000000"/>
              </a:solidFill>
              <a:latin typeface="Arial"/>
            </a:endParaRPr>
          </a:p>
        </p:txBody>
      </p:sp>
      <p:sp>
        <p:nvSpPr>
          <p:cNvPr id="1114" name="TextBox 5"/>
          <p:cNvSpPr/>
          <p:nvPr/>
        </p:nvSpPr>
        <p:spPr>
          <a:xfrm>
            <a:off x="2573280" y="4184640"/>
            <a:ext cx="51339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P is a compressional wave that bounced off the surface midway between the earthquake and the recording station.</a:t>
            </a:r>
            <a:endParaRPr b="0" lang="en-US" sz="1400" spc="-1" strike="noStrike">
              <a:solidFill>
                <a:srgbClr val="000000"/>
              </a:solidFill>
              <a:latin typeface="Arial"/>
            </a:endParaRPr>
          </a:p>
        </p:txBody>
      </p:sp>
      <p:sp>
        <p:nvSpPr>
          <p:cNvPr id="1115" name="TextBox 4"/>
          <p:cNvSpPr/>
          <p:nvPr/>
        </p:nvSpPr>
        <p:spPr>
          <a:xfrm>
            <a:off x="2799000" y="192096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P</a:t>
            </a:r>
            <a:endParaRPr b="0" lang="en-US" sz="1800" spc="-1" strike="noStrike">
              <a:solidFill>
                <a:srgbClr val="000000"/>
              </a:solidFill>
              <a:latin typeface="Arial"/>
            </a:endParaRPr>
          </a:p>
        </p:txBody>
      </p:sp>
      <p:cxnSp>
        <p:nvCxnSpPr>
          <p:cNvPr id="1116" name="Straight Arrow Connector 23"/>
          <p:cNvCxnSpPr/>
          <p:nvPr/>
        </p:nvCxnSpPr>
        <p:spPr>
          <a:xfrm>
            <a:off x="1844280" y="2530440"/>
            <a:ext cx="173880" cy="224640"/>
          </a:xfrm>
          <a:prstGeom prst="straightConnector1">
            <a:avLst/>
          </a:prstGeom>
          <a:ln w="12600">
            <a:solidFill>
              <a:srgbClr val="000000"/>
            </a:solidFill>
            <a:miter/>
            <a:tailEnd len="med" type="arrow" w="med"/>
          </a:ln>
        </p:spPr>
      </p:cxnSp>
      <p:sp>
        <p:nvSpPr>
          <p:cNvPr id="111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a:t>
            </a:r>
            <a:r>
              <a:rPr b="1" lang="en-US" sz="2000" spc="-1" strike="noStrike">
                <a:solidFill>
                  <a:srgbClr val="11488b"/>
                </a:solidFill>
                <a:latin typeface="Arial"/>
                <a:ea typeface="Arial"/>
              </a:rPr>
              <a:t>7.5 PAPUA NEW GUINEA</a:t>
            </a:r>
            <a:br>
              <a:rPr sz="3500"/>
            </a:br>
            <a:r>
              <a:rPr b="1" lang="en-US" sz="1500" spc="-1" strike="noStrike">
                <a:solidFill>
                  <a:srgbClr val="11488b"/>
                </a:solidFill>
                <a:latin typeface="Arial"/>
                <a:ea typeface="Arial"/>
              </a:rPr>
              <a:t>Sunday,  February 25, 2018 at 17:44:44 UTC</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ＭＳ Ｐゴシック"/>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lease send feedback to </a:t>
            </a:r>
            <a:r>
              <a:rPr b="0" lang="en-US" sz="1800" spc="-1" strike="noStrike" u="sng">
                <a:solidFill>
                  <a:srgbClr val="0000ff"/>
                </a:solidFill>
                <a:uFillTx/>
                <a:latin typeface="Arial"/>
                <a:ea typeface="ＭＳ Ｐゴシック"/>
                <a:hlinkClick r:id="rId1"/>
              </a:rPr>
              <a:t>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ubscribe at </a:t>
            </a:r>
            <a:r>
              <a:rPr b="0" lang="en-US" sz="1800" spc="-1" strike="noStrike" u="sng">
                <a:solidFill>
                  <a:srgbClr val="0000ff"/>
                </a:solidFill>
                <a:uFillTx/>
                <a:latin typeface="Arial"/>
                <a:ea typeface="ＭＳ Ｐゴシック"/>
                <a:hlinkClick r:id="rId2"/>
              </a:rPr>
              <a:t>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0" name="Picture 1" descr=""/>
          <p:cNvPicPr/>
          <p:nvPr/>
        </p:nvPicPr>
        <p:blipFill>
          <a:blip r:embed="rId3"/>
          <a:stretch/>
        </p:blipFill>
        <p:spPr>
          <a:xfrm>
            <a:off x="6400800" y="5262480"/>
            <a:ext cx="2413080" cy="1281240"/>
          </a:xfrm>
          <a:prstGeom prst="rect">
            <a:avLst/>
          </a:prstGeom>
          <a:ln w="0">
            <a:noFill/>
          </a:ln>
        </p:spPr>
      </p:pic>
      <p:pic>
        <p:nvPicPr>
          <p:cNvPr id="1121" name="Picture 1" descr=""/>
          <p:cNvPicPr/>
          <p:nvPr/>
        </p:nvPicPr>
        <p:blipFill>
          <a:blip r:embed="rId4"/>
          <a:stretch/>
        </p:blipFill>
        <p:spPr>
          <a:xfrm>
            <a:off x="709560" y="5337000"/>
            <a:ext cx="1200240" cy="1206720"/>
          </a:xfrm>
          <a:prstGeom prst="rect">
            <a:avLst/>
          </a:prstGeom>
          <a:ln w="0">
            <a:noFill/>
          </a:ln>
        </p:spPr>
      </p:pic>
      <p:sp>
        <p:nvSpPr>
          <p:cNvPr id="1122"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ea typeface="ＭＳ Ｐゴシック"/>
              </a:rPr>
              <a:t>www.iris.edu/earthquake</a:t>
            </a:r>
            <a:endParaRPr b="0" lang="en-US" sz="1400" spc="-1" strike="noStrike">
              <a:solidFill>
                <a:srgbClr val="000000"/>
              </a:solidFill>
              <a:latin typeface="Arial"/>
            </a:endParaRPr>
          </a:p>
        </p:txBody>
      </p:sp>
      <p:pic>
        <p:nvPicPr>
          <p:cNvPr id="1123" name="Picture 4" descr=""/>
          <p:cNvPicPr/>
          <p:nvPr/>
        </p:nvPicPr>
        <p:blipFill>
          <a:blip r:embed="rId5"/>
          <a:stretch/>
        </p:blipFill>
        <p:spPr>
          <a:xfrm>
            <a:off x="3681360" y="4997520"/>
            <a:ext cx="188748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cp:lastPrinted>2013-04-07T18:50:57Z</cp:lastPrinted>
  <dcterms:modified xsi:type="dcterms:W3CDTF">2018-02-26T05:01:03Z</dcterms:modified>
  <cp:revision>737</cp:revision>
  <dc:subject/>
  <dc:title>Slide 1</dc:title>
</cp:coreProperties>
</file>